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81CF-180D-4A95-8845-6C2BE7678D5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cpconjitcompilation.htm" TargetMode="External"/><Relationship Id="rId2" Type="http://schemas.openxmlformats.org/officeDocument/2006/relationships/hyperlink" Target="file:///D:/Cursus%20Dev%20Net/Etape%202/Architecture%20Technique%20IDE/Diaporama%20Dot%20Net/cpconjitcompilation.htm" TargetMode="External"/><Relationship Id="rId3" Type="http://schemas.openxmlformats.org/officeDocument/2006/relationships/hyperlink" Target="file:///D:/Cursus%20Dev%20Net/Etape%202/Architecture%20Technique%20IDE/Diaporama%20Dot%20Net/cpconjitcompilation.htm"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et Framework représente un ensemble de services systèmre, de classes et de types de données qui améliorent</a:t>
            </a:r>
            <a:br>
              <a:rPr sz="1200"/>
            </a:br>
            <a:r>
              <a:rPr b="0" lang="fr-FR" sz="1200" spc="-1" strike="noStrike">
                <a:solidFill>
                  <a:srgbClr val="000000"/>
                </a:solidFill>
                <a:latin typeface="Times New Roman"/>
              </a:rPr>
              <a:t>la productivité du développeur et facilité l’accès aux fonctionnalités offertes par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ramework .Net apporte aussi une sécurité accrue d’exécution aux applications qui sont dés lors plus stable p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gestion de la mémo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sécurité des threads d’exé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t Framework est un système de classes et de services par cou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ervices Windows et Com+ ne font pas partie du Frame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se doivent d’être présents pour .Net framework SD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une compilation destinée à produire un code managé, le compilateur convertit le code source en langage MSIL (Microsoft Intermediate Language), un jeu d'instructions indépendant du processeur qui est converti efficacement en code nat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SIL inclut des instructions pour le chargement, le stockage, l'initialisation et l'appel de méthodes sur des objets, ainsi que des instructions pour la réalisation d'opérations arithmétiques et logiques, le flux de contrôle, l'accès direct à la mémoire, la gestion des exceptions et d'autres opé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xécuter le code, vous devez d'abord convertir le langage MSIL en code spécifique du processeur, généralement à l'aide d'un </a:t>
            </a:r>
            <a:r>
              <a:rPr b="0" lang="fr-FR" sz="1200" spc="-1" strike="noStrike" u="sng">
                <a:solidFill>
                  <a:srgbClr val="ccccff"/>
                </a:solidFill>
                <a:uFillTx/>
                <a:latin typeface="Times New Roman"/>
                <a:hlinkClick r:id="rId1"/>
              </a:rPr>
              <a:t>compilateur JIT (</a:t>
            </a:r>
            <a:r>
              <a:rPr b="0" lang="fr-FR" sz="1200" spc="-1" strike="noStrike" u="sng">
                <a:solidFill>
                  <a:srgbClr val="ccccff"/>
                </a:solidFill>
                <a:uFillTx/>
                <a:latin typeface="Times New Roman"/>
                <a:hlinkClick r:id="rId2"/>
              </a:rPr>
              <a:t>Just</a:t>
            </a:r>
            <a:r>
              <a:rPr b="0" lang="fr-FR" sz="1200" spc="-1" strike="noStrike" u="sng">
                <a:solidFill>
                  <a:srgbClr val="ccccff"/>
                </a:solidFill>
                <a:uFillTx/>
                <a:latin typeface="Times New Roman"/>
                <a:hlinkClick r:id="rId3"/>
              </a:rPr>
              <a:t>-In-Tim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mesure où le Common Language Runtime fournit un ou plusieurs compilateurs JIT pour chaque architecture d'ordinateur qu'il prend en charge, le même jeu de MSIL peut être traité par un compilateur JIT et exécuté sur toute architecture prise en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517F6-4FD8-462D-A2A7-90C064EB3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75E0B-8499-4D72-ACAD-A56564DD9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A80AC-99D1-406A-82E6-EC05ECA70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528C4-9DC1-47F2-AB60-B174F488F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57FC5-479F-4D5B-A92B-DB94F0607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346C3-7949-4650-8518-C28A28379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595A0-0F11-4FFD-894C-2C45CA376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30788-BB75-4488-9F02-87FCB9FF0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9987D-ECAD-446A-BA0F-0D9620167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6867B-1B1E-4A20-8D50-BCBE1D562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707D7-7D10-4920-8F5F-D9667ECEC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4362C-6F53-4AAC-853D-337C0E6BA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FF0B2-A0E3-4BA6-9143-60B0A88E5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89D4B-345C-4D78-842F-F82EA1E4E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10F28-875A-4257-9555-0F527E737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94C19-828F-47D5-9DAC-6720C9067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B766D-C354-4F11-9C03-BE612ABA3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D1AA6-3E6E-425A-B1AE-312F0FEF1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B0A79-A887-4ADF-A51F-7E9B5B512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8CC5C-4CE3-4B0A-9491-6CE8EB83D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1BD87-3B08-4E06-A7F3-9F1DD1739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548C2-2655-41CF-8B3B-9EC0560A9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3FEF3-8F6A-48D4-A43B-597CAC92D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7FEAE-618B-4A43-B9AA-9F9B021D8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8AD4-0E1B-4F9D-ABD0-14E43950AAE8}"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5E20-8F75-44ED-873F-91CCD48B5E64}"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StagiaireCS/StagiaireCS.sln" TargetMode="External"/><Relationship Id="rId2" Type="http://schemas.openxmlformats.org/officeDocument/2006/relationships/hyperlink" Target="file:///D:/Cursus%20Dev%20Net/Etape%202/Architecture%20Technique%20IDE/Diaporama%20Dot%20Net/StagiaireCS/StagiaireCS.sln" TargetMode="External"/><Relationship Id="rId3" Type="http://schemas.openxmlformats.org/officeDocument/2006/relationships/hyperlink" Target="file:///D:/Cursus%20Dev%20Net/Etape%202/Architecture%20Technique%20IDE/Diaporama%20Dot%20Net/StagiaireCS/StagiaireCS.sln" TargetMode="External"/><Relationship Id="rId4" Type="http://schemas.openxmlformats.org/officeDocument/2006/relationships/hyperlink" Target="file:///D:/Cursus%20Dev%20Net/Etape%202/Architecture%20Technique%20IDE/Diaporama%20Dot%20Net/stagiaireVB/stagiaireVB.sln" TargetMode="External"/><Relationship Id="rId5" Type="http://schemas.openxmlformats.org/officeDocument/2006/relationships/hyperlink" Target="file:///D:/Cursus%20Dev%20Net/Etape%202/Architecture%20Technique%20IDE/Diaporama%20Dot%20Net/stagiaireVB/stagiaireVB.sln" TargetMode="External"/><Relationship Id="rId6" Type="http://schemas.openxmlformats.org/officeDocument/2006/relationships/hyperlink" Target="file:///D:/Cursus%20Dev%20Net/Etape%202/Architecture%20Technique%20IDE/Diaporama%20Dot%20Net/stagiaireVB/stagiaireVB.sln"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file:///D:/Cursus%20Dev%20Net/Etape%202/Architecture%20Technique%20IDE/Diaporama%20Dot%20Net/EssaiIl.ba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Présentation générale </a:t>
            </a:r>
            <a:br>
              <a:rPr sz="4400"/>
            </a:br>
            <a:r>
              <a:rPr b="0" lang="fr-FR" sz="4400" spc="-1" strike="noStrike">
                <a:solidFill>
                  <a:srgbClr val="cbcbcb"/>
                </a:solidFill>
                <a:latin typeface="Times New Roman"/>
              </a:rPr>
              <a:t>de l’architecture .Net</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incent B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eropérabilité des langages</a:t>
            </a:r>
            <a:endParaRPr b="0" lang="en-US" sz="4400" spc="-1" strike="noStrike">
              <a:solidFill>
                <a:srgbClr val="cbcbcb"/>
              </a:solidFill>
              <a:latin typeface="Times New Roman"/>
            </a:endParaRPr>
          </a:p>
        </p:txBody>
      </p:sp>
      <p:sp>
        <p:nvSpPr>
          <p:cNvPr id="117"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objet Stagiair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1"/>
              </a:rPr>
              <a:t> </a:t>
            </a:r>
            <a:r>
              <a:rPr b="1" lang="fr-FR" sz="2400" spc="-1" strike="noStrike" u="sng">
                <a:solidFill>
                  <a:srgbClr val="ff3300"/>
                </a:solidFill>
                <a:uFillTx/>
                <a:latin typeface="Arial"/>
                <a:hlinkClick r:id="rId2"/>
              </a:rPr>
              <a:t>StagiaireCs</a:t>
            </a:r>
            <a:r>
              <a:rPr b="1" lang="fr-FR" sz="2400" spc="-1" strike="noStrike" u="sng">
                <a:solidFill>
                  <a:srgbClr val="ff3300"/>
                </a:solidFill>
                <a:uFillTx/>
                <a:latin typeface="Arial"/>
                <a:hlinkClick r:id="rId3"/>
              </a:rPr>
              <a:t> </a:t>
            </a:r>
            <a:r>
              <a:rPr b="1" lang="fr-FR" sz="2400" spc="-1" strike="noStrike">
                <a:solidFill>
                  <a:srgbClr val="ffffff"/>
                </a:solidFill>
                <a:latin typeface="Arial"/>
              </a:rPr>
              <a:t>écrite en C# </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modèle évolu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écessité de connaître son prénom et son âg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4"/>
              </a:rPr>
              <a:t> </a:t>
            </a:r>
            <a:r>
              <a:rPr b="1" lang="fr-FR" sz="2400" spc="-1" strike="noStrike" u="sng">
                <a:solidFill>
                  <a:srgbClr val="ff3300"/>
                </a:solidFill>
                <a:uFillTx/>
                <a:latin typeface="Arial"/>
                <a:hlinkClick r:id="rId5"/>
              </a:rPr>
              <a:t>StagiaireVb</a:t>
            </a:r>
            <a:r>
              <a:rPr b="1" lang="fr-FR" sz="2400" spc="-1" strike="noStrike" u="sng">
                <a:solidFill>
                  <a:srgbClr val="ff3300"/>
                </a:solidFill>
                <a:uFillTx/>
                <a:latin typeface="Arial"/>
                <a:hlinkClick r:id="rId6"/>
              </a:rPr>
              <a:t> </a:t>
            </a:r>
            <a:r>
              <a:rPr b="1" lang="fr-FR" sz="2400" spc="-1" strike="noStrike">
                <a:solidFill>
                  <a:srgbClr val="ffffff"/>
                </a:solidFill>
                <a:latin typeface="Arial"/>
              </a:rPr>
              <a:t>écrite en Vb dérivée de StagiaireC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cation window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Accès simplifiés aux classes système</a:t>
            </a:r>
            <a:endParaRPr b="0" lang="en-US" sz="4400" spc="-1" strike="noStrike">
              <a:solidFill>
                <a:srgbClr val="cbcbcb"/>
              </a:solidFill>
              <a:latin typeface="Times New Roman"/>
            </a:endParaRPr>
          </a:p>
        </p:txBody>
      </p:sp>
      <p:sp>
        <p:nvSpPr>
          <p:cNvPr id="119"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odèle de programmation unifié orienté objet</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mplification par rapport aux méthodes précédentes </a:t>
            </a:r>
            <a:br>
              <a:rPr sz="2400"/>
            </a:br>
            <a:r>
              <a:rPr b="1" lang="fr-FR" sz="2400" spc="-1" strike="noStrike">
                <a:solidFill>
                  <a:srgbClr val="ffffff"/>
                </a:solidFill>
                <a:latin typeface="Arial"/>
              </a:rPr>
              <a:t>MFC, API 32</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lasses bien organisées et hiérarchisées au sein d’espaces de nom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 récupération page We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unifiée des exceptions</a:t>
            </a:r>
            <a:endParaRPr b="0" lang="en-US" sz="4400" spc="-1" strike="noStrike">
              <a:solidFill>
                <a:srgbClr val="cbcbcb"/>
              </a:solidFill>
              <a:latin typeface="Times New Roman"/>
            </a:endParaRPr>
          </a:p>
        </p:txBody>
      </p:sp>
      <p:sp>
        <p:nvSpPr>
          <p:cNvPr id="121"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cessus d’interception des erreurs a été amélioré et standardisé</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ilité de séparer le code de gestion des erreurs du code régulier</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grouper les erreurs par natur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ception et gestion des exceptions avec n’importe quel langage</a:t>
            </a: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bogage unifié des applications</a:t>
            </a:r>
            <a:endParaRPr b="0" lang="en-US" sz="4400" spc="-1" strike="noStrike">
              <a:solidFill>
                <a:srgbClr val="cbcbcb"/>
              </a:solidFill>
              <a:latin typeface="Times New Roman"/>
            </a:endParaRPr>
          </a:p>
        </p:txBody>
      </p:sp>
      <p:sp>
        <p:nvSpPr>
          <p:cNvPr id="123"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mbreuses fonctionnalités</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elles de VB 6 + celles issues de VC++</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isponibles quel que soit le langag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Parmi les fonctionnalités dispos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 Points d’arrêt</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enêtres de débogage de cod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bjet Debug</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actions possibles en cours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améliorée du Multithreading </a:t>
            </a:r>
            <a:endParaRPr b="0" lang="en-US" sz="4400" spc="-1" strike="noStrike">
              <a:solidFill>
                <a:srgbClr val="cbcbcb"/>
              </a:solidFill>
              <a:latin typeface="Times New Roman"/>
            </a:endParaRPr>
          </a:p>
        </p:txBody>
      </p:sp>
      <p:sp>
        <p:nvSpPr>
          <p:cNvPr id="125"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Thread est :</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unité d’exécution traitée par l’unité centrale</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haque processus d’application comporte au moins un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threads sont planifiés</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iorité d’exécution influe sur le temps processeur affecté à chaque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ermettent des traitements asynchro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Com : Com Interop </a:t>
            </a:r>
            <a:endParaRPr b="0" lang="en-US" sz="4400" spc="-1" strike="noStrike">
              <a:solidFill>
                <a:srgbClr val="cbcbcb"/>
              </a:solidFill>
              <a:latin typeface="Times New Roman"/>
            </a:endParaRPr>
          </a:p>
        </p:txBody>
      </p:sp>
      <p:sp>
        <p:nvSpPr>
          <p:cNvPr id="127"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éutiliser la bibliothèques de composants ActiveX/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er l’intégration de développements « natif » dans une application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aciliter et accélérer la migration des applications vers le Framework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SQL-DM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osants distants : .Net Remoting </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990720" y="1981080"/>
            <a:ext cx="3539880" cy="4356360"/>
          </a:xfrm>
          <a:prstGeom prst="rect">
            <a:avLst/>
          </a:prstGeom>
          <a:ln w="0">
            <a:noFill/>
          </a:ln>
        </p:spPr>
      </p:pic>
      <p:sp>
        <p:nvSpPr>
          <p:cNvPr id="130" name="PlaceHolder 2"/>
          <p:cNvSpPr>
            <a:spLocks noGrp="1"/>
          </p:cNvSpPr>
          <p:nvPr>
            <p:ph/>
          </p:nvPr>
        </p:nvSpPr>
        <p:spPr>
          <a:xfrm>
            <a:off x="4952880" y="2133720"/>
            <a:ext cx="36576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ccesseur  de Com/D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essages sont formatés et transportés selon HTTP/XML ou</a:t>
            </a:r>
            <a:br>
              <a:rPr sz="2800"/>
            </a:br>
            <a:r>
              <a:rPr b="1" lang="fr-FR" sz="2800" spc="-1" strike="noStrike">
                <a:solidFill>
                  <a:srgbClr val="ffffff"/>
                </a:solidFill>
                <a:latin typeface="Arial"/>
              </a:rPr>
              <a:t>TCP/Binaire</a:t>
            </a:r>
            <a:endParaRPr b="1"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ploiement d’applications simplifié </a:t>
            </a:r>
            <a:endParaRPr b="0" lang="en-US" sz="4400" spc="-1" strike="noStrike">
              <a:solidFill>
                <a:srgbClr val="cbcbcb"/>
              </a:solidFill>
              <a:latin typeface="Times New Roman"/>
            </a:endParaRPr>
          </a:p>
        </p:txBody>
      </p:sp>
      <p:sp>
        <p:nvSpPr>
          <p:cNvPr id="132"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ar recours aux assembly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assembly contient</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de MSIL à exécuter</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ressources associées à l’application</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étadonnées </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 descriptif</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ploiement à l’aide de XCOPY</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rise l’installation de plusieurs vers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Net Framework</a:t>
            </a:r>
            <a:endParaRPr b="0" lang="en-US" sz="4400" spc="-1" strike="noStrike">
              <a:solidFill>
                <a:srgbClr val="cbcbcb"/>
              </a:solidFill>
              <a:latin typeface="Times New Roman"/>
            </a:endParaRPr>
          </a:p>
        </p:txBody>
      </p:sp>
      <p:pic>
        <p:nvPicPr>
          <p:cNvPr id="99" name="" descr=""/>
          <p:cNvPicPr/>
          <p:nvPr/>
        </p:nvPicPr>
        <p:blipFill>
          <a:blip r:embed="rId1"/>
          <a:stretch/>
        </p:blipFill>
        <p:spPr>
          <a:xfrm>
            <a:off x="2590920" y="1600200"/>
            <a:ext cx="5075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1"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nd en charge la gestion de la mémoire et le ramasse miette Garbage Collector</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 un système de types commun à l’ensemble des langages (CT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Gère les langages conforme à la CLS (Common Language Specif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3"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et standardisation du développement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s exceptions unifié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bogage multilingu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vironnement d’exécution plus sûr et plus stable</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ypes commun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du déploiemen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des langages</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1143000" y="1987560"/>
            <a:ext cx="6389640" cy="448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graphicFrame>
        <p:nvGraphicFramePr>
          <p:cNvPr id="107" name=""/>
          <p:cNvGraphicFramePr/>
          <p:nvPr/>
        </p:nvGraphicFramePr>
        <p:xfrm>
          <a:off x="1295280" y="1981080"/>
          <a:ext cx="5667480" cy="2895840"/>
        </p:xfrm>
        <a:graphic>
          <a:graphicData uri="http://schemas.openxmlformats.org/presentationml/2006/ole">
            <p:oleObj r:id="rId1" spid="">
              <p:embed/>
              <p:pic>
                <p:nvPicPr>
                  <p:cNvPr id="108" name="" descr=""/>
                  <p:cNvPicPr/>
                  <p:nvPr/>
                </p:nvPicPr>
                <p:blipFill>
                  <a:blip r:embed="rId2"/>
                  <a:stretch/>
                </p:blipFill>
                <p:spPr>
                  <a:xfrm>
                    <a:off x="1295280" y="1981080"/>
                    <a:ext cx="5667480" cy="2895840"/>
                  </a:xfrm>
                  <a:prstGeom prst="rect">
                    <a:avLst/>
                  </a:prstGeom>
                  <a:ln w="0">
                    <a:noFill/>
                  </a:ln>
                </p:spPr>
              </p:pic>
            </p:oleObj>
          </a:graphicData>
        </a:graphic>
      </p:graphicFrame>
      <p:sp>
        <p:nvSpPr>
          <p:cNvPr id="109" name="PlaceHolder 2"/>
          <p:cNvSpPr>
            <a:spLocks noGrp="1"/>
          </p:cNvSpPr>
          <p:nvPr>
            <p:ph/>
          </p:nvPr>
        </p:nvSpPr>
        <p:spPr>
          <a:xfrm>
            <a:off x="838080" y="4876920"/>
            <a:ext cx="6858000" cy="1676160"/>
          </a:xfrm>
          <a:prstGeom prst="rect">
            <a:avLst/>
          </a:prstGeom>
          <a:noFill/>
          <a:ln w="0">
            <a:noFill/>
          </a:ln>
        </p:spPr>
        <p:txBody>
          <a:bodyPr lIns="92160" rIns="92160" tIns="46080" bIns="46080" anchor="t">
            <a:normAutofit fontScale="99000"/>
          </a:bodyPr>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grammé en code intermédiaire (spécification du jeu d’instruction dans SDK)</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uis avec l’outil ilasm.exe générer un exécutable</a:t>
            </a:r>
            <a:r>
              <a:rPr b="1" lang="fr-FR" sz="1800" spc="-1" strike="noStrike" u="sng">
                <a:solidFill>
                  <a:srgbClr val="ff3300"/>
                </a:solidFill>
                <a:uFillTx/>
                <a:latin typeface="Arial"/>
                <a:hlinkClick r:id="rId3"/>
              </a:rPr>
              <a:t> </a:t>
            </a:r>
            <a:r>
              <a:rPr b="1" lang="fr-FR" sz="1800" spc="-1" strike="noStrike">
                <a:solidFill>
                  <a:srgbClr val="ffffff"/>
                </a:solidFill>
                <a:latin typeface="Arial"/>
              </a:rPr>
              <a:t>exe </a:t>
            </a:r>
            <a:br>
              <a:rPr sz="1800"/>
            </a:br>
            <a:r>
              <a:rPr b="1" lang="fr-FR" sz="1800" spc="-1" strike="noStrike">
                <a:solidFill>
                  <a:srgbClr val="ffffff"/>
                </a:solidFill>
                <a:latin typeface="Arial"/>
              </a:rPr>
              <a:t>ou dll en assembleur MSIL.</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dernier sera ensuite compilé par le compilateur JIT ad’hoc</a:t>
            </a:r>
            <a:endParaRPr b="1"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sp>
        <p:nvSpPr>
          <p:cNvPr id="111" name="PlaceHolder 2"/>
          <p:cNvSpPr>
            <a:spLocks noGrp="1"/>
          </p:cNvSpPr>
          <p:nvPr>
            <p:ph/>
          </p:nvPr>
        </p:nvSpPr>
        <p:spPr>
          <a:xfrm>
            <a:off x="914400" y="2209680"/>
            <a:ext cx="6858000" cy="28958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aussi réaliser l’opération invers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vec l’outil ildasm.exe générer le source MSIL d’un exécutable assemblé en MSIL</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ur contrer ses mécanismes qui facilitent le travail des fraudeurs et pilleurs en tout genre, il est possible de protéger son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ilation JIT</a:t>
            </a:r>
            <a:endParaRPr b="0" lang="en-US" sz="4400" spc="-1" strike="noStrike">
              <a:solidFill>
                <a:srgbClr val="cbcbcb"/>
              </a:solidFill>
              <a:latin typeface="Times New Roman"/>
            </a:endParaRPr>
          </a:p>
        </p:txBody>
      </p:sp>
      <p:sp>
        <p:nvSpPr>
          <p:cNvPr id="113" name="PlaceHolder 2"/>
          <p:cNvSpPr>
            <a:spLocks noGrp="1"/>
          </p:cNvSpPr>
          <p:nvPr>
            <p:ph/>
          </p:nvPr>
        </p:nvSpPr>
        <p:spPr>
          <a:xfrm>
            <a:off x="914400" y="2209320"/>
            <a:ext cx="6858000" cy="3581640"/>
          </a:xfrm>
          <a:prstGeom prst="rect">
            <a:avLst/>
          </a:prstGeom>
          <a:noFill/>
          <a:ln w="0">
            <a:noFill/>
          </a:ln>
        </p:spPr>
        <p:txBody>
          <a:bodyPr lIns="92160" rIns="92160" tIns="46080" bIns="4608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mpilateur JIT compile le code en fonction des besoi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méthode compilée est mise en cache et n’est donc pas recompiler à chaque appel : image nativ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le de générer une compilation préalable (JIT préalable) pour les applications comportant un grand nombre de méthod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JIT : Conclusions</a:t>
            </a:r>
            <a:endParaRPr b="0" lang="en-US" sz="4400" spc="-1" strike="noStrike">
              <a:solidFill>
                <a:srgbClr val="cbcbcb"/>
              </a:solidFill>
              <a:latin typeface="Times New Roman"/>
            </a:endParaRPr>
          </a:p>
        </p:txBody>
      </p:sp>
      <p:sp>
        <p:nvSpPr>
          <p:cNvPr id="115"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fichiers exe ou dll issus de la génération sont composés de code intermédiair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s ne seront exécutés que si .Net est installé sur la machi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compilation JIT conserve de très bonnes performances à vos applications (dans certaines conditions elles sont mêmes amélioré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JIT / Dot Net est nettement plus performant que l’approche Java /JVM</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6:45:38Z</dcterms:created>
  <dc:creator>A.F.P.A. Pays de Brive</dc:creator>
  <dc:description/>
  <dc:language>en-US</dc:language>
  <cp:lastModifiedBy>A.F.P.A. Pays de Brive</cp:lastModifiedBy>
  <dcterms:modified xsi:type="dcterms:W3CDTF">2009-01-25T15:36:26Z</dcterms:modified>
  <cp:revision>66</cp:revision>
  <dc:subject/>
  <dc:title>Présentation générale  de la Formation RPSI</dc:title>
</cp:coreProperties>
</file>