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8F6B-54B1-480F-BAE8-3DD72B24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7D4C-C0DF-49F1-83F0-746EC1CD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A8B-CE0A-4675-B410-FDBF986F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0493-D3EB-4553-86A2-DB102B19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2AC2-1371-435B-A006-1654C959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BBC5-ABF4-4CEF-934A-389434F8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A96B-98F6-4C20-B98A-94F256F4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64C2-3CB8-4662-8B5C-2F5BDC27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A0ED-51B3-43FF-8976-7C7ECBFC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C952-ADBB-4997-BCB5-5305C904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2481-9907-4B95-960E-7218ECA7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C7E0-FE34-4B66-BA48-383A91EC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32EA-A531-4AC1-A335-541B89DE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4B89-53C8-4901-9788-C42C0E8A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1948-D0E8-4CEC-A232-6EC95EED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BC36-0C6B-40F5-8262-4D915E1B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B955-0459-4D08-BF61-89E3E331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D38A-CAB7-4D06-A15C-464EE868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4819-9D85-49F8-AA63-E4656236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D673-D1DE-42F9-85AE-9ED64114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BCB2-C26D-429A-903E-8AE82049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361D-95F4-4904-AC23-ABC64A12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8196-A093-40B5-9655-185BB49C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2D9D-4C9A-4F5A-B5C7-139668C6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F3B2-BF8A-4EEC-B126-D8ED1375D9F9}" type="slidenum">
              <a:rPr b="0" lang="fr-CH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DC45-B655-4E81-9144-704EDCB85CC7}" type="slidenum">
              <a:rPr b="0" lang="fr-CH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XML Query (XQuery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28 avril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Nicolas Décr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mple : opérateur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On retrouve les même opérateurs que dans les autres langa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resul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LET $a := avg(//book/pric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FOR $b IN /book WHERE $b/price &gt; $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expensive_book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{ $b/title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price_differenc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{ $b/price - $a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/price_differenc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/expensive_book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/resul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Conlusion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Langage puissant et éléga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Par rapport à XS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approche globale, déclarati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XSLT 2.0 = sous-ensemble XQue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Reste à faire ce qui marche en relation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optimisation des requê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vu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et les mises à jour (insert/delete/update) 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Conclusio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Perte de complétude si pas de DT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Pas de schéma=&gt; pas d’uniformité des noms =&gt; information cachée (perdue?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En théorie on peut représenter le relationnel en X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Et traduire le SQL en XQuery facilement, va-t-on le faire 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Les bases de données objets ont échoué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Sauf comme outil de persistance pour les langages C++/Jav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et les bases XML 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Pour en savoir plu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http://www.w3.org/TR/xquery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http://www.datadirect.com/news/whatsnew/xquerybook/index.ss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rc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Document "Guide.xml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Guide Version="3.0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 type="auberge" categorie="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e Vieux Moulin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du Salève&lt;/Rue&gt;&lt;Ville&gt;Driz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Gérant&gt;Dufourneau&lt;/Gé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 type="italien" categorie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Mamma Mia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Georges Favon&lt;/Rue&gt;&lt;Ville&gt;Genèv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Gérant&gt;Maldini&lt;/Gé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 type="gastronomique" categorie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'Epicurien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Bourg-de-Four&lt;/Rue&gt;&lt;Ville&gt;Genèv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Ba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e Tuyau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Passage Monetier&lt;/Rue&gt;&lt;Ville&gt;Genèv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Ba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Guid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rcice (su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Document "Répertoire.xml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épertoire Version="1.0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Suisse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Cornavin&lt;/Rue&gt;&lt;Ville NP="1201"&gt;Genève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es Tourelles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Georges Favon &lt;/Rue&gt;&lt;Ville NP="1204"&gt;Genève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Edelweiss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Rigistrasse&lt;/Rue&gt;&lt;Ville NP="6002"&gt;Lucerne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Hôtel de la Truite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Poste&lt;/Rue&gt;&lt;Ville NP="1342"&gt;Le Pont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épertoir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Les question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1: le nom et l'adresse des restaurants de Genè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2 (jointure): le nom des restaurants se trouvant dans la même rue que l'hôtel Les Tourel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3 (agrégation): combien y a t il de restaurants dans le gu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4 (imbrication de "for"): lister les valeurs de tous les attributs des hôtels (sous éléments compris) dont le libellé de la rue ou de la ville contient "Pont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Q1: le nom et l'adresse des restaurants de Genè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$r IN document("Guide.xml")/Guide/Restaur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WHERE $r/Adresse/Ville = "Genève"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 &lt;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 { $r/Nom } 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 { $r/Adresse/Rue }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Mamma Mia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Georges Favon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'Epicurien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Bourg-de-Four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Q2 (jointure) : le nom des restaurants se trouvant dans la même rue que l’hôtel les  Tourel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$r IN document("Guide.xml")/Guide/Restaur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$h IN document("Répertoire.xml")/Répertoire/Hôt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WHERE $r//Rue = $h//Rue AND $h//Nom = "Les Tourelles"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 &lt;Nom&gt; { $r/Nom } 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Mamma Mia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Q3 (agrégation): combien y a t il de restaurants dans le gui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LET $r:=document("Guide.xml")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//Restaur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breRestaurants&gt; count($r) &lt;/NombreRestaurants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breRestaurants&gt;3&lt;/NombreRestaurants 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Q4 (imbrication de "FOR"): lister les valeurs de tous les attributs des hôtels (sous-éléments compris) dont le libellé de la rue ou de la ville contient "Pont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$h IN document("Répertoire.xml")/Répertoire/Hôt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WHERE $h/Adresse/(Rue|Ville) CONTAINS ("Pont"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 &lt;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$a IN $h//@* RETURN &lt;Attribut&gt; $a &lt;/Attribu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ttribut&gt;***&lt;/Attribu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ttribut&gt;1342&lt;/Attribu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P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Les bases de X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Exerc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Document XML comme B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Lancer requêtes sur documents X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Dérivé de XPath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Les bases de X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Chaque requête est un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Types d’expre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expressions de chem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constructeurs d’élé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expressions conditionnel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expressions FLW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pressions de chem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Basée sur syntaxe X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000" spc="-1" strike="noStrike">
                <a:solidFill>
                  <a:srgbClr val="000000"/>
                </a:solidFill>
                <a:latin typeface="Tahoma"/>
              </a:rPr>
              <a:t>Titres de chapitres dans un document livres.xm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document("livres.xml")//chapitre/tit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000" spc="-1" strike="noStrike">
                <a:solidFill>
                  <a:srgbClr val="000000"/>
                </a:solidFill>
                <a:latin typeface="Tahoma"/>
              </a:rPr>
              <a:t>Livres publiés par Addison-Wesley après 1991: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document("biblio.xml")//livre[editeur = "Addison-Wesley" AND @annee &gt; "1991"]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Contructeurs d’élé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{} permet de placer une expression dans construc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livre&gt;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{ $b/@annee }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{ $b/titre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/livr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Résult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livre annee="2004"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titre&gt;XQuery&lt;/titl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/livre&gt;</a:t>
            </a:r>
            <a:r>
              <a:rPr b="0" lang="fr-C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pressions conditionnel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IF/THEN/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utilisateur&gt;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{ $u/numero }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{ $u/nom }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{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IF (empty($b))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THEN &lt;status&gt;inactif&lt;/status&gt;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ELSE &lt;status&gt;actif&lt;/status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/utilsateur&gt;</a:t>
            </a:r>
            <a:r>
              <a:rPr b="0" lang="fr-CH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pressions FLW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Forme génér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FOR $&lt;var&gt; in &lt;forest&gt;, $&lt;var&gt; ...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ité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LET $&lt;var&gt; := &lt;subtree&gt;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assign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WHERE &lt;condition&gt;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élagag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RETURN &lt;result&gt;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constru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Similitude requête 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mple : FLW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resultats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FOR $t IN distinct(document("prix.xml")/prix/livre/titr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LET $p:=avg(document("prix.xml")/prix/livre[titre=$t]/pr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WHERE (document("biblio/xml")/livre[titre=$t]/editeur) = "Addison-Wesley"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RETURN</a:t>
            </a:r>
            <a:br>
              <a:rPr sz="1600"/>
            </a:b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resulta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{ $t }</a:t>
            </a:r>
            <a:br>
              <a:rPr sz="1600"/>
            </a:b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     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moy&gt;{ $p }&lt;/moy&gt;</a:t>
            </a:r>
            <a:br>
              <a:rPr sz="1600"/>
            </a:b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    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/resulta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/resultats&gt;</a:t>
            </a:r>
            <a:r>
              <a:rPr b="0" lang="fr-CH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6:37:05Z</dcterms:created>
  <dc:creator>James Bond</dc:creator>
  <dc:description/>
  <dc:language>en-US</dc:language>
  <cp:lastModifiedBy>" "</cp:lastModifiedBy>
  <dcterms:modified xsi:type="dcterms:W3CDTF">2004-04-28T04:39:38Z</dcterms:modified>
  <cp:revision>58</cp:revision>
  <dc:subject/>
  <dc:title>XML Que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