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ED83-92F2-498D-B2FA-6278B683A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B66D-FC96-4506-BC4E-BB58813C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6807-15AC-43E3-B45E-C4491DE22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E4A9-9E26-4154-A089-9243E35C0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3EE5-DD3C-4A2F-A2B5-EFC1DC914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F797-E5F4-4320-BA85-E2C3DEE7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470A-089A-4F72-9B3C-028C709B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84D0-3F25-4F06-AA7D-E737FC4A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3C8C-E48E-4768-8620-910E881F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AE1C-F391-4C28-B80D-3E835560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A5CB-92C3-4C1D-BB0A-D66AD8BA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7914-E811-4F0B-8F75-B3524642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ED4B-B24C-46A6-851F-EECD21BB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7789-56D1-4333-9F82-CC46DBB5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30D3-0FA4-4A49-B959-78AB3A65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0B34-387E-4643-8D23-D02F1898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580E-23E7-4481-9C08-4BBF03CF4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3C49-828F-4DAC-A7B4-CAA9995D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9771-93A6-464E-8EA5-99D3E2C0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2FCD-A40D-4861-94B7-A5EE6002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BB16-AB36-44A2-9CBE-886D0A17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825D-39FF-405E-8BA8-738C5C23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6811-BF3C-47C7-99CB-1BEF8AD6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84AA-2714-48EF-B632-6876C0B0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2148-1DB2-4B73-90A8-5AADE6BE474C}" type="slidenum">
              <a:rPr b="0" lang="fr-CH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330F-CCDE-4769-8032-7B3FAAA5898E}" type="slidenum">
              <a:rPr b="0" lang="fr-CH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XML Query (XQuery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28 avril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Nicolas Décr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emple : opérateur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On retrouve les même opérateurs que dans les autres langag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result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LET $a := avg(//book/pric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FOR $b IN /book WHERE $b/price &gt; $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expensive_book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{ $b/title 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price_differenc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{ $b/price - $a 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/price_differenc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/expensive_book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/result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Conlusion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Langage puissant et éléga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Par rapport à XSL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approche globale, déclarativ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XSLT 2.0 = sous-ensemble XQue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Reste à faire ce qui marche en relationn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optimisation des requê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vu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et les mises à jour (insert/delete/update) 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Conclusion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Perte de complétude si pas de DT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Pas de schéma=&gt; pas d’uniformité des noms =&gt; information cachée (perdue?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En théorie on peut représenter le relationnel en X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Et traduire le SQL en XQuery facilement, va-t-on le faire 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Les bases de données objets ont échoué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Sauf comme outil de persistance pour les langages C++/Jav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et les bases XML 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Pour en savoir plu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http://www.w3.org/TR/xquery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http://www.datadirect.com/news/whatsnew/xquerybook/index.ss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erc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Document "Guide.xml"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Guide Version="3.0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taurant type="auberge" categorie="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Le Vieux Moulin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du Salève&lt;/Rue&gt;&lt;Ville&gt;Drize&lt;/Ville&gt; 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Gérant&gt;Dufourneau&lt;/Gé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taurant type="italien" categorie="*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Mamma Mia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Georges Favon&lt;/Rue&gt;&lt;Ville&gt;Genève&lt;/Ville&gt; 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Gérant&gt;Maldini&lt;/Gé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taurant type="gastronomique" categorie="*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L'Epicurien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Bourg-de-Four&lt;/Rue&gt;&lt;Ville&gt;Genève&lt;/Ville&gt; 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Ba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Le Tuyau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Passage Monetier&lt;/Rue&gt;&lt;Ville&gt;Genève&lt;/Ville&gt; 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Ba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Guid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ercice (suit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ahoma"/>
              </a:rPr>
              <a:t>Document "Répertoire.xml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épertoire Version="1.0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Hôtel confort="*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Suisse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Cornavin&lt;/Rue&gt;&lt;Ville NP="1201"&gt;Genève&lt;/Ville&gt;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Hôtel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Hôtel confort="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Les Tourelles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Georges Favon &lt;/Rue&gt;&lt;Ville NP="1204"&gt;Genève&lt;/Ville&gt;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Hôtel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Hôtel confort="**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Edelweiss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Rigistrasse&lt;/Rue&gt;&lt;Ville NP="6002"&gt;Lucerne&lt;/Ville&gt;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Hôtel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Hôtel confort="*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Hôtel de la Truite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Poste&lt;/Rue&gt;&lt;Ville NP="1342"&gt;Le Pont&lt;/Ville&gt;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Hôtel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épertoir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Les question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Q1: le nom et l'adresse des restaurants de Genè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Q2 (jointure): le nom des restaurants se trouvant dans la même rue que l'hôtel Les Tourel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Q3 (agrégation): combien y a t il de restaurants dans le gu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Q4 (imbrication de "for"): lister les valeurs de tous les attributs des hôtels (sous éléments compris) dont le libellé de la rue ou de la ville contient "Pont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Solution pour Q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ahoma"/>
              </a:rPr>
              <a:t>Q1: le nom et l'adresse des restaurants de Genè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FOR $r IN document("Guide.xml")/Guide/Restaura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WHERE $r/Adresse/Ville = "Genève"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RETURN &lt;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 { $r/Nom } 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 { $r/Adresse/Rue } 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ahoma"/>
              </a:rPr>
              <a:t>Résultat de la requêt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Mamma Mia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Georges Favon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L'Epicurien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Bourg-de-Four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Solution pour Q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ahoma"/>
              </a:rPr>
              <a:t>Q2 (jointure) : le nom des restaurants se trouvant dans la même rue que l’hôtel les  Tourel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FOR 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$r IN document("Guide.xml")/Guide/Restaura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$h IN document("Répertoire.xml")/Répertoire/Hôt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WHERE $r//Rue = $h//Rue AND $h//Nom = "Les Tourelles"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RETURN &lt;Nom&gt; { $r/Nom } 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ahoma"/>
              </a:rPr>
              <a:t>Résultat de la requêt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Mamma Mia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Solution pour Q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Q3 (agrégation): combien y a t il de restaurants dans le gui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LET $r:=document("Guide.xml")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//Restaura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RETUR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breRestaurants&gt; count($r) &lt;/NombreRestaurants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Résultat de la requêt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breRestaurants&gt;3&lt;/NombreRestaurants 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Solution pour Q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Q4 (imbrication de "FOR"): lister les valeurs de tous les attributs des hôtels (sous-éléments compris) dont le libellé de la rue ou de la ville contient "Pont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FOR $h IN document("Répertoire.xml")/Répertoire/Hôt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WHERE $h/Adresse/(Rue|Ville) CONTAINS ("Pont"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RETURN &lt;Resul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FOR $a IN $h//@* RETURN &lt;Attribut&gt; $a &lt;/Attribu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ul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Résultat de la requêt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ul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ttribut&gt;***&lt;/Attribu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ttribut&gt;1342&lt;/Attribu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ul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P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Les bases de X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Exerc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Document XML comme B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Lancer requêtes sur documents X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Dérivé de XPath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Les bases de X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Chaque requête est un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Types d’expre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expressions de chem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constructeurs d’élé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expressions conditionnel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expressions FLW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pressions de chem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Basée sur syntaxe X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000" spc="-1" strike="noStrike">
                <a:solidFill>
                  <a:srgbClr val="000000"/>
                </a:solidFill>
                <a:latin typeface="Tahoma"/>
              </a:rPr>
              <a:t>Titres de chapitres dans un document livres.xm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document("livres.xml")//chapitre/tit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000" spc="-1" strike="noStrike">
                <a:solidFill>
                  <a:srgbClr val="000000"/>
                </a:solidFill>
                <a:latin typeface="Tahoma"/>
              </a:rPr>
              <a:t>Livres publiés par Addison-Wesley après 1991: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document("biblio.xml")//livre[editeur = "Addison-Wesley" AND @annee &gt; "1991"]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Contructeurs d’élé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{} permet de placer une expression dans construc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livre&gt;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{ $b/@annee }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{ $b/titre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/livr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Résult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livre annee="2004"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titre&gt;XQuery&lt;/titl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/livre&gt;</a:t>
            </a:r>
            <a:r>
              <a:rPr b="0" lang="fr-CH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pressions conditionnel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IF/THEN/E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utilisateur&gt;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 { $u/numero }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 { $u/nom }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 {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IF (empty($b))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 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THEN &lt;status&gt;inactif&lt;/status&gt;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 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ELSE &lt;status&gt;actif&lt;/status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/utilsateur&gt;</a:t>
            </a:r>
            <a:r>
              <a:rPr b="0" lang="fr-CH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pressions FLW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Forme génér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FOR $&lt;var&gt; in &lt;forest&gt;, $&lt;var&gt; ...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// itér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LET $&lt;var&gt; := &lt;subtree&gt;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// assign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WHERE &lt;condition&gt;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// élagag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RETURN &lt;result&gt;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// constru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Similitude requête SQ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emple : FLW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&lt;resultats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FOR $t IN distinct(document("prix.xml")/prix/livre/titr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LET $p:=avg(document("prix.xml")/prix/livre[titre=$t]/pr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WHERE (document("biblio/xml")/livre[titre=$t]/editeur) = "Addison-Wesley"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RETURN</a:t>
            </a:r>
            <a:br>
              <a:rPr sz="1600"/>
            </a:b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&lt;resultat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{ $t }</a:t>
            </a:r>
            <a:br>
              <a:rPr sz="1600"/>
            </a:b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     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&lt;moy&gt;{ $p }&lt;/moy&gt;</a:t>
            </a:r>
            <a:br>
              <a:rPr sz="1600"/>
            </a:b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    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&lt;/resultat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&lt;/resultats&gt;</a:t>
            </a:r>
            <a:r>
              <a:rPr b="0" lang="fr-CH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06:37:05Z</dcterms:created>
  <dc:creator>James Bond</dc:creator>
  <dc:description/>
  <dc:language>en-US</dc:language>
  <cp:lastModifiedBy>" "</cp:lastModifiedBy>
  <dcterms:modified xsi:type="dcterms:W3CDTF">2004-04-28T04:39:38Z</dcterms:modified>
  <cp:revision>58</cp:revision>
  <dc:subject/>
  <dc:title>XML Que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