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1BA85-FC44-4068-AE07-75ED65596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0B3CB-9818-4637-926B-6E402FE6D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C4767-811D-40E6-ABF3-5A3178064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E83D5-80D1-4D8D-A0B2-693D0B5AC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65C52-F31C-4B97-9322-E6A682916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CB876-23E8-471A-97C2-52C8BAE15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97CB3-5FE8-4BE1-BFDF-B192CB843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31109-6304-4273-B71B-D28646E9A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CFBAB-FD16-413D-A95C-77BB383F8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36813-F4C9-4C0A-8E6F-55823AE9E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2EF04-7878-4646-8AD9-6C313A2D5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D5131-4387-4E47-AD22-8B1AD4C17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78EE1-CFBF-4E23-A2E5-5D1E2746F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494A6-0094-4DFC-8F07-A42666D6D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7A33E-3B96-42D5-B692-0482876B1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FB0B6-0A9C-467C-A8B2-FFA0EC437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5F173-3F88-4E1B-A798-5D4CA2CCB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B94A3-2FB0-4BF0-B0C6-AE9B42E9A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9541C-C4C7-4D35-9963-E211B5C49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C1F50-5F6E-4E94-B0BF-D11C17742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60356-8D50-4C07-84E3-CE0B8A0FC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33417-E6FB-463F-8DD0-9F3E44EB9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FA4D1-07A1-4D09-94D6-FF34B75B8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AC34F-3BD0-4E7E-85FF-D9AAD78C4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H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H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H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3552B-F13B-4978-A295-AFD0335DDFA4}" type="slidenum">
              <a:rPr b="0" lang="fr-CH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H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H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H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72C0D-8B01-499B-AC13-381058D426A9}" type="slidenum">
              <a:rPr b="0" lang="fr-CH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333399"/>
                </a:solidFill>
                <a:latin typeface="Tahoma"/>
              </a:rPr>
              <a:t>XML Query (XQuery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Tahoma"/>
              </a:rPr>
              <a:t>28 avril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Tahoma"/>
              </a:rPr>
              <a:t>Nicolas Décr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333399"/>
                </a:solidFill>
                <a:latin typeface="Tahoma"/>
              </a:rPr>
              <a:t>Exemple : opérateur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Tahoma"/>
              </a:rPr>
              <a:t>On retrouve les même opérateurs que dans les autres langag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&lt;result&g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LET $a := avg(//book/price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FOR $b IN /book WHERE $b/price &gt; $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&lt;expensive_book&g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{ $b/title 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&lt;price_difference&g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{ $b/price - $a 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&lt;/price_difference&g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&lt;/expensive_book&g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&lt;/result&g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333399"/>
                </a:solidFill>
                <a:latin typeface="Tahoma"/>
              </a:rPr>
              <a:t>Conlusion (1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Tahoma"/>
              </a:rPr>
              <a:t>Langage puissant et éléga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Tahoma"/>
              </a:rPr>
              <a:t>Par rapport à XSL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400" spc="-1" strike="noStrike">
                <a:solidFill>
                  <a:srgbClr val="000000"/>
                </a:solidFill>
                <a:latin typeface="Tahoma"/>
              </a:rPr>
              <a:t>approche globale, déclarativ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400" spc="-1" strike="noStrike">
                <a:solidFill>
                  <a:srgbClr val="000000"/>
                </a:solidFill>
                <a:latin typeface="Tahoma"/>
              </a:rPr>
              <a:t>XSLT 2.0 = sous-ensemble XQuery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Tahoma"/>
              </a:rPr>
              <a:t>Reste à faire ce qui marche en relationn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400" spc="-1" strike="noStrike">
                <a:solidFill>
                  <a:srgbClr val="000000"/>
                </a:solidFill>
                <a:latin typeface="Tahoma"/>
              </a:rPr>
              <a:t>optimisation des requête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400" spc="-1" strike="noStrike">
                <a:solidFill>
                  <a:srgbClr val="000000"/>
                </a:solidFill>
                <a:latin typeface="Tahoma"/>
              </a:rPr>
              <a:t>vue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400" spc="-1" strike="noStrike">
                <a:solidFill>
                  <a:srgbClr val="000000"/>
                </a:solidFill>
                <a:latin typeface="Tahoma"/>
              </a:rPr>
              <a:t>…</a:t>
            </a:r>
            <a:r>
              <a:rPr b="0" lang="fr-CH" sz="1400" spc="-1" strike="noStrike">
                <a:solidFill>
                  <a:srgbClr val="000000"/>
                </a:solidFill>
                <a:latin typeface="Tahoma"/>
              </a:rPr>
              <a:t>et les mises à jour (insert/delete/update) ?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333399"/>
                </a:solidFill>
                <a:latin typeface="Tahoma"/>
              </a:rPr>
              <a:t>Conclusion (2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Tahoma"/>
              </a:rPr>
              <a:t>Perte de complétude si pas de DT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400" spc="-1" strike="noStrike">
                <a:solidFill>
                  <a:srgbClr val="000000"/>
                </a:solidFill>
                <a:latin typeface="Tahoma"/>
              </a:rPr>
              <a:t>Pas de schéma=&gt; pas d’uniformité des noms =&gt; information cachée (perdue?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Tahoma"/>
              </a:rPr>
              <a:t>En théorie on peut représenter le relationnel en XM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400" spc="-1" strike="noStrike">
                <a:solidFill>
                  <a:srgbClr val="000000"/>
                </a:solidFill>
                <a:latin typeface="Tahoma"/>
              </a:rPr>
              <a:t>Et traduire le SQL en XQuery facilement, va-t-on le faire ?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Tahoma"/>
              </a:rPr>
              <a:t>Les bases de données objets ont échoué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400" spc="-1" strike="noStrike">
                <a:solidFill>
                  <a:srgbClr val="000000"/>
                </a:solidFill>
                <a:latin typeface="Tahoma"/>
              </a:rPr>
              <a:t>Sauf comme outil de persistance pour les langages C++/Jav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400" spc="-1" strike="noStrike">
                <a:solidFill>
                  <a:srgbClr val="000000"/>
                </a:solidFill>
                <a:latin typeface="Tahoma"/>
              </a:rPr>
              <a:t>…</a:t>
            </a:r>
            <a:r>
              <a:rPr b="0" lang="fr-CH" sz="1400" spc="-1" strike="noStrike">
                <a:solidFill>
                  <a:srgbClr val="000000"/>
                </a:solidFill>
                <a:latin typeface="Tahoma"/>
              </a:rPr>
              <a:t>et les bases XML ?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Tahoma"/>
              </a:rPr>
              <a:t>Pour en savoir plus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400" spc="-1" strike="noStrike">
                <a:solidFill>
                  <a:srgbClr val="000000"/>
                </a:solidFill>
                <a:latin typeface="Tahoma"/>
              </a:rPr>
              <a:t>http://www.w3.org/TR/xquery/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400" spc="-1" strike="noStrike">
                <a:solidFill>
                  <a:srgbClr val="000000"/>
                </a:solidFill>
                <a:latin typeface="Tahoma"/>
              </a:rPr>
              <a:t>http://www.datadirect.com/news/whatsnew/xquerybook/index.ssp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333399"/>
                </a:solidFill>
                <a:latin typeface="Tahoma"/>
              </a:rPr>
              <a:t>Exerci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400" spc="-1" strike="noStrike">
                <a:solidFill>
                  <a:srgbClr val="000000"/>
                </a:solidFill>
                <a:latin typeface="Tahoma"/>
              </a:rPr>
              <a:t>Document "Guide.xml"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&lt;Guide Version="3.0"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&lt;Restaurant type="auberge" categorie="**"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&lt;Nom&gt;Le Vieux Moulin&lt;/Nom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&lt;Adresse&gt;&lt;Rue&gt;du Salève&lt;/Rue&gt;&lt;Ville&gt;Drize&lt;/Ville&gt; &lt;/Adress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&lt;Gérant&gt;Dufourneau&lt;/Gérant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&lt;/Restaurant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&lt;Restaurant type="italien" categorie="***"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&lt;Nom&gt;Mamma Mia&lt;/Nom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&lt;Adresse&gt;&lt;Rue&gt;Georges Favon&lt;/Rue&gt;&lt;Ville&gt;Genève&lt;/Ville&gt; &lt;/Adress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&lt;Gérant&gt;Maldini&lt;/Gérant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&lt;/Restaurant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&lt;Restaurant type="gastronomique" categorie="***"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&lt;Nom&gt;L'Epicurien&lt;/Nom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&lt;Adresse&gt;&lt;Rue&gt;Bourg-de-Four&lt;/Rue&gt;&lt;Ville&gt;Genève&lt;/Ville&gt; &lt;/Adress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&lt;/Restaurant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&lt;Bar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&lt;Nom&gt;Le Tuyau&lt;/Nom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&lt;Adresse&gt;&lt;Rue&gt;Passage Monetier&lt;/Rue&gt;&lt;Ville&gt;Genève&lt;/Ville&gt; &lt;/Adress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&lt;/Bar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&lt;/Guid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333399"/>
                </a:solidFill>
                <a:latin typeface="Tahoma"/>
              </a:rPr>
              <a:t>Exercice (suit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600" spc="-1" strike="noStrike">
                <a:solidFill>
                  <a:srgbClr val="000000"/>
                </a:solidFill>
                <a:latin typeface="Tahoma"/>
              </a:rPr>
              <a:t>Document "Répertoire.xml"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&lt;Répertoire Version="1.0"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&lt;Hôtel confort="***"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&lt;Nom&gt;Suisse&lt;/Nom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&lt;Adresse&gt;&lt;Rue&gt;Cornavin&lt;/Rue&gt;&lt;Ville NP="1201"&gt;Genève&lt;/Ville&gt;&lt;/Adress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&lt;/Hôtel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&lt;Hôtel confort="**"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&lt;Nom&gt;Les Tourelles&lt;/Nom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&lt;Adresse&gt;&lt;Rue&gt;Georges Favon &lt;/Rue&gt;&lt;Ville NP="1204"&gt;Genève&lt;/Ville&gt;&lt;/Adress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&lt;/Hôtel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&lt;Hôtel confort="****"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&lt;Nom&gt;Edelweiss&lt;/Nom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&lt;Adresse&gt;&lt;Rue&gt;Rigistrasse&lt;/Rue&gt;&lt;Ville NP="6002"&gt;Lucerne&lt;/Ville&gt;&lt;/Adress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&lt;/Hôtel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&lt;Hôtel confort="***"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&lt;Nom&gt;Hôtel de la Truite&lt;/Nom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&lt;Adresse&gt;&lt;Rue&gt;Poste&lt;/Rue&gt;&lt;Ville NP="1342"&gt;Le Pont&lt;/Ville&gt;&lt;/Adress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&lt;/Hôtel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&lt;/Répertoir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333399"/>
                </a:solidFill>
                <a:latin typeface="Tahoma"/>
              </a:rPr>
              <a:t>Les questions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Tahoma"/>
              </a:rPr>
              <a:t>Q1: le nom et l'adresse des restaurants de Genè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Tahoma"/>
              </a:rPr>
              <a:t>Q2 (jointure): le nom des restaurants se trouvant dans la même rue que l'hôtel Les Tourel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Tahoma"/>
              </a:rPr>
              <a:t>Q3 (agrégation): combien y a t il de restaurants dans le gui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Tahoma"/>
              </a:rPr>
              <a:t>Q4 (imbrication de "for"): lister les valeurs de tous les attributs des hôtels (sous éléments compris) dont le libellé de la rue ou de la ville contient "Pont"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333399"/>
                </a:solidFill>
                <a:latin typeface="Tahoma"/>
              </a:rPr>
              <a:t>Solution pour Q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600" spc="-1" strike="noStrike">
                <a:solidFill>
                  <a:srgbClr val="000000"/>
                </a:solidFill>
                <a:latin typeface="Tahoma"/>
              </a:rPr>
              <a:t>Q1: le nom et l'adresse des restaurants de Genèv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FOR $r IN document("Guide.xml")/Guide/Restauran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WHERE $r/Adresse/Ville = "Genève"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RETURN &lt;Restaurant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&lt;Nom&gt; { $r/Nom } &lt;/Nom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&lt;Adresse&gt; { $r/Adresse/Rue } &lt;/Adress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&lt;/Restaurant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600" spc="-1" strike="noStrike">
                <a:solidFill>
                  <a:srgbClr val="000000"/>
                </a:solidFill>
                <a:latin typeface="Tahoma"/>
              </a:rPr>
              <a:t>Résultat de la requête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&lt;Restaurant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&lt;Nom&gt;Mamma Mia&lt;/Nom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&lt;Adresse&gt;Georges Favon&lt;/Adress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&lt;/Restaurant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&lt;Restaurant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&lt;Nom&gt;L'Epicurien&lt;/Nom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&lt;Adresse&gt;Bourg-de-Four&lt;/Adress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&lt;/Restaurant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333399"/>
                </a:solidFill>
                <a:latin typeface="Tahoma"/>
              </a:rPr>
              <a:t>Solution pour Q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600" spc="-1" strike="noStrike">
                <a:solidFill>
                  <a:srgbClr val="000000"/>
                </a:solidFill>
                <a:latin typeface="Tahoma"/>
              </a:rPr>
              <a:t>Q2 (jointure) : le nom des restaurants se trouvant dans la même rue que l’hôtel les  Tourell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FOR 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$r IN document("Guide.xml")/Guide/Restauran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$h IN document("Répertoire.xml")/Répertoire/Hôtel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WHERE $r//Rue = $h//Rue AND $h//Nom = "Les Tourelles"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RETURN &lt;Nom&gt; { $r/Nom } &lt;/Nom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600" spc="-1" strike="noStrike">
                <a:solidFill>
                  <a:srgbClr val="000000"/>
                </a:solidFill>
                <a:latin typeface="Tahoma"/>
              </a:rPr>
              <a:t>Résultat de la requête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  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&lt;Nom&gt;Mamma Mia&lt;/Nom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333399"/>
                </a:solidFill>
                <a:latin typeface="Tahoma"/>
              </a:rPr>
              <a:t>Solution pour Q3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Tahoma"/>
              </a:rPr>
              <a:t>Q3 (agrégation): combien y a t il de restaurants dans le guid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LET $r:=document("Guide.xml")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//Restauran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RETUR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&lt;NombreRestaurants&gt; count($r) &lt;/NombreRestaurants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Tahoma"/>
              </a:rPr>
              <a:t>Résultat de la requête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&lt;NombreRestaurants&gt;3&lt;/NombreRestaurants 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333399"/>
                </a:solidFill>
                <a:latin typeface="Tahoma"/>
              </a:rPr>
              <a:t>Solution pour Q4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Tahoma"/>
              </a:rPr>
              <a:t>Q4 (imbrication de "FOR"): lister les valeurs de tous les attributs des hôtels (sous-éléments compris) dont le libellé de la rue ou de la ville contient "Pont"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FOR $h IN document("Répertoire.xml")/Répertoire/Hôtel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WHERE $h/Adresse/(Rue|Ville) CONTAINS ("Pont"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RETURN &lt;Result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FOR $a IN $h//@* RETURN &lt;Attribut&gt; $a &lt;/Attribut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  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&lt;/Result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Tahoma"/>
              </a:rPr>
              <a:t>Résultat de la requête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&lt;Result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&lt;Attribut&gt;***&lt;/Attribut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&lt;Attribut&gt;1342&lt;/Attribut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&lt;Result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333399"/>
                </a:solidFill>
                <a:latin typeface="Tahoma"/>
              </a:rPr>
              <a:t>Pla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Tahoma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Tahoma"/>
              </a:rPr>
              <a:t>Les bases de XQue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Tahoma"/>
              </a:rPr>
              <a:t>Exe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Tahoma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Tahoma"/>
              </a:rPr>
              <a:t>Exerci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333399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Tahoma"/>
              </a:rPr>
              <a:t>Document XML comme B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Tahoma"/>
              </a:rPr>
              <a:t>Lancer requêtes sur documents XM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Tahoma"/>
              </a:rPr>
              <a:t>Dérivé de XPath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333399"/>
                </a:solidFill>
                <a:latin typeface="Tahoma"/>
              </a:rPr>
              <a:t>Les bases de XQuer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Tahoma"/>
              </a:rPr>
              <a:t>Chaque requête est une exp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Tahoma"/>
              </a:rPr>
              <a:t>Types d’express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Tahoma"/>
              </a:rPr>
              <a:t>expressions de chem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Tahoma"/>
              </a:rPr>
              <a:t>constructeurs d’élé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Tahoma"/>
              </a:rPr>
              <a:t>expressions conditionnel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Tahoma"/>
              </a:rPr>
              <a:t>expressions FLW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333399"/>
                </a:solidFill>
                <a:latin typeface="Tahoma"/>
              </a:rPr>
              <a:t>Expressions de chem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Tahoma"/>
              </a:rPr>
              <a:t>Basée sur syntaxe X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H" sz="2000" spc="-1" strike="noStrike">
                <a:solidFill>
                  <a:srgbClr val="000000"/>
                </a:solidFill>
                <a:latin typeface="Tahoma"/>
              </a:rPr>
              <a:t>Titres de chapitres dans un document livres.xml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333399"/>
                </a:solidFill>
                <a:latin typeface="Tahoma"/>
              </a:rPr>
              <a:t>document("livres.xml")//chapitre/titr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H" sz="2000" spc="-1" strike="noStrike">
                <a:solidFill>
                  <a:srgbClr val="000000"/>
                </a:solidFill>
                <a:latin typeface="Tahoma"/>
              </a:rPr>
              <a:t>Livres publiés par Addison-Wesley après 1991:</a:t>
            </a:r>
            <a:r>
              <a:rPr b="0" lang="fr-CH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333399"/>
                </a:solidFill>
                <a:latin typeface="Tahoma"/>
              </a:rPr>
              <a:t>document("biblio.xml")//livre[editeur = "Addison-Wesley" AND @annee &gt; "1991"]</a:t>
            </a:r>
            <a:r>
              <a:rPr b="0" lang="fr-CH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333399"/>
                </a:solidFill>
                <a:latin typeface="Tahoma"/>
              </a:rPr>
              <a:t>Contructeurs d’élé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Tahoma"/>
              </a:rPr>
              <a:t>{} permet de placer une expression dans construc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333399"/>
                </a:solidFill>
                <a:latin typeface="Tahoma"/>
              </a:rPr>
              <a:t>&lt;livre&gt;</a:t>
            </a:r>
            <a:br>
              <a:rPr sz="1800"/>
            </a:br>
            <a:r>
              <a:rPr b="0" lang="fr-CH" sz="1800" spc="-1" strike="noStrike">
                <a:solidFill>
                  <a:srgbClr val="333399"/>
                </a:solidFill>
                <a:latin typeface="Tahoma"/>
              </a:rPr>
              <a:t> { $b/@annee }</a:t>
            </a:r>
            <a:br>
              <a:rPr sz="1800"/>
            </a:br>
            <a:r>
              <a:rPr b="0" lang="fr-CH" sz="1800" spc="-1" strike="noStrike">
                <a:solidFill>
                  <a:srgbClr val="333399"/>
                </a:solidFill>
                <a:latin typeface="Tahoma"/>
              </a:rPr>
              <a:t> { $b/titre 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333399"/>
                </a:solidFill>
                <a:latin typeface="Tahoma"/>
              </a:rPr>
              <a:t>&lt;/livre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Tahoma"/>
              </a:rPr>
              <a:t>Résult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333399"/>
                </a:solidFill>
                <a:latin typeface="Tahoma"/>
              </a:rPr>
              <a:t>&lt;livre annee="2004"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800" spc="-1" strike="noStrike">
                <a:solidFill>
                  <a:srgbClr val="333399"/>
                </a:solidFill>
                <a:latin typeface="Tahoma"/>
              </a:rPr>
              <a:t>&lt;titre&gt;XQuery&lt;/title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333399"/>
                </a:solidFill>
                <a:latin typeface="Tahoma"/>
              </a:rPr>
              <a:t>&lt;/livre&gt;</a:t>
            </a:r>
            <a:r>
              <a:rPr b="0" lang="fr-CH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333399"/>
                </a:solidFill>
                <a:latin typeface="Tahoma"/>
              </a:rPr>
              <a:t>Expressions conditionnell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Tahoma"/>
              </a:rPr>
              <a:t>IF/THEN/EL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333399"/>
                </a:solidFill>
                <a:latin typeface="Tahoma"/>
              </a:rPr>
              <a:t>&lt;utilisateur&gt;</a:t>
            </a:r>
            <a:br>
              <a:rPr sz="1800"/>
            </a:br>
            <a:r>
              <a:rPr b="0" lang="fr-CH" sz="1800" spc="-1" strike="noStrike">
                <a:solidFill>
                  <a:srgbClr val="333399"/>
                </a:solidFill>
                <a:latin typeface="Tahoma"/>
              </a:rPr>
              <a:t>  { $u/numero }</a:t>
            </a:r>
            <a:br>
              <a:rPr sz="1800"/>
            </a:br>
            <a:r>
              <a:rPr b="0" lang="fr-CH" sz="1800" spc="-1" strike="noStrike">
                <a:solidFill>
                  <a:srgbClr val="333399"/>
                </a:solidFill>
                <a:latin typeface="Tahoma"/>
              </a:rPr>
              <a:t>  { $u/nom }</a:t>
            </a:r>
            <a:br>
              <a:rPr sz="1800"/>
            </a:br>
            <a:r>
              <a:rPr b="0" lang="fr-CH" sz="1800" spc="-1" strike="noStrike">
                <a:solidFill>
                  <a:srgbClr val="333399"/>
                </a:solidFill>
                <a:latin typeface="Tahoma"/>
              </a:rPr>
              <a:t>  {</a:t>
            </a:r>
            <a:r>
              <a:rPr b="0" lang="fr-CH" sz="18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800" spc="-1" strike="noStrike">
                <a:solidFill>
                  <a:srgbClr val="333399"/>
                </a:solidFill>
                <a:latin typeface="Tahoma"/>
              </a:rPr>
              <a:t>IF (empty($b))</a:t>
            </a:r>
            <a:br>
              <a:rPr sz="1800"/>
            </a:br>
            <a:r>
              <a:rPr b="0" lang="fr-CH" sz="1800" spc="-1" strike="noStrike">
                <a:solidFill>
                  <a:srgbClr val="333399"/>
                </a:solidFill>
                <a:latin typeface="Tahoma"/>
              </a:rPr>
              <a:t>  </a:t>
            </a:r>
            <a:r>
              <a:rPr b="0" lang="fr-CH" sz="1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800" spc="-1" strike="noStrike">
                <a:solidFill>
                  <a:srgbClr val="333399"/>
                </a:solidFill>
                <a:latin typeface="Tahoma"/>
              </a:rPr>
              <a:t>THEN &lt;status&gt;inactif&lt;/status&gt;</a:t>
            </a:r>
            <a:br>
              <a:rPr sz="1800"/>
            </a:br>
            <a:r>
              <a:rPr b="0" lang="fr-CH" sz="1800" spc="-1" strike="noStrike">
                <a:solidFill>
                  <a:srgbClr val="333399"/>
                </a:solidFill>
                <a:latin typeface="Tahoma"/>
              </a:rPr>
              <a:t>  </a:t>
            </a:r>
            <a:r>
              <a:rPr b="0" lang="fr-CH" sz="1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800" spc="-1" strike="noStrike">
                <a:solidFill>
                  <a:srgbClr val="333399"/>
                </a:solidFill>
                <a:latin typeface="Tahoma"/>
              </a:rPr>
              <a:t>ELSE &lt;status&gt;actif&lt;/status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800" spc="-1" strike="noStrike">
                <a:solidFill>
                  <a:srgbClr val="333399"/>
                </a:solidFill>
                <a:latin typeface="Tahoma"/>
              </a:rPr>
              <a:t>  </a:t>
            </a:r>
            <a:r>
              <a:rPr b="0" lang="fr-CH" sz="1800" spc="-1" strike="noStrike">
                <a:solidFill>
                  <a:srgbClr val="333399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333399"/>
                </a:solidFill>
                <a:latin typeface="Tahoma"/>
              </a:rPr>
              <a:t>&lt;/utilsateur&gt;</a:t>
            </a:r>
            <a:r>
              <a:rPr b="0" lang="fr-CH" sz="1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333399"/>
                </a:solidFill>
                <a:latin typeface="Tahoma"/>
              </a:rPr>
              <a:t>Expressions FLW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Tahoma"/>
              </a:rPr>
              <a:t>Forme généra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FOR $&lt;var&gt; in &lt;forest&gt;, $&lt;var&gt; ... </a:t>
            </a: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// itératio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LET $&lt;var&gt; := &lt;subtree&gt; </a:t>
            </a: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// assignatio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WHERE &lt;condition&gt; </a:t>
            </a: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// élagag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RETURN &lt;result&gt; </a:t>
            </a: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// constructio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Tahoma"/>
              </a:rPr>
              <a:t>Similitude requête SQ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333399"/>
                </a:solidFill>
                <a:latin typeface="Tahoma"/>
              </a:rPr>
              <a:t>Exemple : FLW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600" spc="-1" strike="noStrike">
                <a:solidFill>
                  <a:srgbClr val="333399"/>
                </a:solidFill>
                <a:latin typeface="Tahoma"/>
              </a:rPr>
              <a:t>&lt;resultats&g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600" spc="-1" strike="noStrike">
                <a:solidFill>
                  <a:srgbClr val="333399"/>
                </a:solidFill>
                <a:latin typeface="Tahoma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600" spc="-1" strike="noStrike">
                <a:solidFill>
                  <a:srgbClr val="333399"/>
                </a:solidFill>
                <a:latin typeface="Tahoma"/>
              </a:rPr>
              <a:t>FOR $t IN distinct(document("prix.xml")/prix/livre/titre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6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600" spc="-1" strike="noStrike">
                <a:solidFill>
                  <a:srgbClr val="333399"/>
                </a:solidFill>
                <a:latin typeface="Tahoma"/>
              </a:rPr>
              <a:t>LET $p:=avg(document("prix.xml")/prix/livre[titre=$t]/prix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6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600" spc="-1" strike="noStrike">
                <a:solidFill>
                  <a:srgbClr val="333399"/>
                </a:solidFill>
                <a:latin typeface="Tahoma"/>
              </a:rPr>
              <a:t>WHERE (document("biblio/xml")/livre[titre=$t]/editeur) = "Addison-Wesley"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600" spc="-1" strike="noStrike">
                <a:solidFill>
                  <a:srgbClr val="333399"/>
                </a:solidFill>
                <a:latin typeface="Tahoma"/>
              </a:rPr>
              <a:t>RETURN</a:t>
            </a:r>
            <a:br>
              <a:rPr sz="1600"/>
            </a:br>
            <a:r>
              <a:rPr b="0" lang="fr-CH" sz="1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600" spc="-1" strike="noStrike">
                <a:solidFill>
                  <a:srgbClr val="333399"/>
                </a:solidFill>
                <a:latin typeface="Tahoma"/>
              </a:rPr>
              <a:t>&lt;resultat&g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600" spc="-1" strike="noStrike">
                <a:solidFill>
                  <a:srgbClr val="333399"/>
                </a:solidFill>
                <a:latin typeface="Tahoma"/>
              </a:rPr>
              <a:t>{ $t }</a:t>
            </a:r>
            <a:br>
              <a:rPr sz="1600"/>
            </a:br>
            <a:r>
              <a:rPr b="0" lang="fr-CH" sz="1600" spc="-1" strike="noStrike">
                <a:solidFill>
                  <a:srgbClr val="333399"/>
                </a:solidFill>
                <a:latin typeface="Tahoma"/>
              </a:rPr>
              <a:t>     </a:t>
            </a:r>
            <a:r>
              <a:rPr b="0" lang="fr-CH" sz="1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600" spc="-1" strike="noStrike">
                <a:solidFill>
                  <a:srgbClr val="333399"/>
                </a:solidFill>
                <a:latin typeface="Tahoma"/>
              </a:rPr>
              <a:t>&lt;moy&gt;{ $p }&lt;/moy&gt;</a:t>
            </a:r>
            <a:br>
              <a:rPr sz="1600"/>
            </a:br>
            <a:r>
              <a:rPr b="0" lang="fr-CH" sz="1600" spc="-1" strike="noStrike">
                <a:solidFill>
                  <a:srgbClr val="333399"/>
                </a:solidFill>
                <a:latin typeface="Tahoma"/>
              </a:rPr>
              <a:t>    </a:t>
            </a:r>
            <a:r>
              <a:rPr b="0" lang="fr-CH" sz="1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600" spc="-1" strike="noStrike">
                <a:solidFill>
                  <a:srgbClr val="333399"/>
                </a:solidFill>
                <a:latin typeface="Tahoma"/>
              </a:rPr>
              <a:t>&lt;/resultat&g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600" spc="-1" strike="noStrike">
                <a:solidFill>
                  <a:srgbClr val="333399"/>
                </a:solidFill>
                <a:latin typeface="Tahoma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600" spc="-1" strike="noStrike">
                <a:solidFill>
                  <a:srgbClr val="333399"/>
                </a:solidFill>
                <a:latin typeface="Tahoma"/>
              </a:rPr>
              <a:t>&lt;/resultats&gt;</a:t>
            </a:r>
            <a:r>
              <a:rPr b="0" lang="fr-CH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7T06:37:05Z</dcterms:created>
  <dc:creator>James Bond</dc:creator>
  <dc:description/>
  <dc:language>en-US</dc:language>
  <cp:lastModifiedBy>" "</cp:lastModifiedBy>
  <dcterms:modified xsi:type="dcterms:W3CDTF">2004-04-28T04:39:38Z</dcterms:modified>
  <cp:revision>58</cp:revision>
  <dc:subject/>
  <dc:title>XML Quer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5</vt:r8>
  </property>
</Properties>
</file>