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EFA81-B796-4F24-8A45-B8CB78DB6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404-B17D-455C-90E5-9049D3C54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6901-4899-4716-AFA1-C26025958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A6C-D01E-4845-AFFE-DE969D0D0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3252-1809-4161-BD32-D4D96DE8A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31481-9F69-4EAB-948B-642FD61F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D54B5-F548-4C17-9E71-7C0280CEB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AEB90-443B-459C-BD85-4E60DFC3E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B8892-EB65-41C9-B53A-FE92E8C2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E977-D5D1-4B18-9F40-568C9FCB1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BE039-60BA-4BD7-B68A-ABBAAFC9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A8A7-E269-4E46-BF30-A7F2B26C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43D2E-7E77-42FE-B248-7FE81642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778AA-1C17-4A2E-B1FD-26159C50E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A18E-5A71-40FA-8163-9143729A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4A3FA-AC92-4B62-95D0-5FE4038BC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36A64-62F6-47D3-B302-965E57510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D1B0C-3B1C-4B57-9A46-D488957AC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D531-5C46-4BE5-A62E-AD0BC6B1F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A9C-3CFA-445B-BF3C-FB51ECC34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603BD-1A23-4B39-BDB5-12AE06FDA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72AD-BA1E-45F1-B98D-EA0B8C92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A84B-9220-4332-9F51-DAA72FA1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B1553-C0EA-4799-9074-2055AE61C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CC01-3B5C-49AB-A5B3-CA50E97036FB}" type="slidenum">
              <a:rPr b="0" lang="fr-CH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83A3-9435-47E6-840A-8353CB6E02FF}" type="slidenum">
              <a:rPr b="0" lang="fr-CH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XML Query (XQuery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28 avril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Nicolas Décr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opérateur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On retrouve les même opérateurs que dans les autres langage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a := avg(//book/pric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b IN /book WHERE $b/price &gt; $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title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{ $b/price - $a 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price_difference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expensive_book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lusion (1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angage puissant et éléga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ar rapport à XSL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approche globale, déclarati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XSLT 2.0 = sous-ensemble XQuery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este à faire ce qui marche en relationn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optimisation des requê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vu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mises à jour (insert/delete/update)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clusion (2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erte de complétude si pas de DT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Pas de schéma=&gt; pas d’uniformité des noms =&gt; information cachée (perdue?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En théorie on peut représenter le relationnel en XM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traduire le SQL en XQuery facilement, va-t-on le faire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Les bases de données objets ont échoué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Sauf comme outil de persistance pour les langages C++/Jav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et les bases XML 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Pour en savoir plu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w3.org/TR/xquery/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http://www.datadirect.com/news/whatsnew/xquerybook/index.ssp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400" spc="-1" strike="noStrike">
                <a:solidFill>
                  <a:srgbClr val="000000"/>
                </a:solidFill>
                <a:latin typeface="Tahoma"/>
              </a:rPr>
              <a:t>Document "Guide.xml"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uide Version="3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auberge" categorie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Vieux Mouli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du Salève&lt;/Rue&gt;&lt;Ville&gt;Driz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Dufourneau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italien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Gérant&gt;Maldini&lt;/Gé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 type="gastronomique" categorie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Bourg-de-Fou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 Tuyau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assage Monetier&lt;/Rue&gt;&lt;Ville&gt;Genève&lt;/Ville&gt;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Bar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Guid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rcice (suit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Document "Répertoire.xml"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épertoire Version="1.0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Suiss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Cornavin&lt;/Rue&gt;&lt;Ville NP="1201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es Tourelle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Georges Favon &lt;/Rue&gt;&lt;Ville NP="1204"&gt;Genèv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Edelweiss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Rigistrasse&lt;/Rue&gt;&lt;Ville NP="6002"&gt;Lucerne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Hôtel confort="***"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Hôtel de la Truite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&lt;Rue&gt;Poste&lt;/Rue&gt;&lt;Ville NP="1342"&gt;Le Pont&lt;/Ville&gt;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Hôtel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épertoir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questions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2 (jointure): le nom des restaurants se trouvant dans la même rue que l'hôtel Les Tourel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 éléments compris) dont le libellé de la rue ou de la ville contient "Pont"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1: le nom et l'adresse des restaurants de Genèv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Adresse/Ville = "Genève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 { $r/Adresse/Rue } 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Courier New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Georges Favon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L'Epicurien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dresse&gt;Bourg-de-Four&lt;/Adress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tauran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Q2 (jointure) : le nom des restaurants se trouvant dans la même rue que l’hôtel les  Tourelle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r IN document("Guide.xml")/Guide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r//Rue = $h//Rue AND $h//Nom = "Les Tourelles"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Nom&gt; { $r/Nom } 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&gt;Mamma Mia&lt;/Nom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3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3 (agrégation): combien y a t il de restaurants dans le guid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LET $r:=document("Guide.xml")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//Restauran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 count($r) &lt;/NombreRestaurants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NombreRestaurants&gt;3&lt;/NombreRestaurants 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Solution pour Q4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Q4 (imbrication de "FOR"): lister les valeurs de tous les attributs des hôtels (sous-éléments compris) dont le libellé de la rue ou de la ville contient "Pont"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h IN document("Répertoire.xml")/Répertoire/Hôtel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WHERE $h/Adresse/(Rue|Ville) CONTAINS ("Pont"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RETURN 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FOR $a IN $h//@* RETURN &lt;Attribut&gt; $a 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/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Tahoma"/>
              </a:rPr>
              <a:t>Résultat de la requête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***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Attribut&gt;1342&lt;/Attribu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200" spc="-1" strike="noStrike">
                <a:solidFill>
                  <a:srgbClr val="333399"/>
                </a:solidFill>
                <a:latin typeface="Tahoma"/>
              </a:rPr>
              <a:t>&lt;Result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Pla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es bases de XQue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Exerci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ocument XML comme B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Lancer requêtes sur documents XM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Dérivé de XPath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Les bases de XQuer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Chaque requête est une exp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Tahoma"/>
              </a:rPr>
              <a:t>Types d’express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de chem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constructeurs d’élé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conditionnel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expressions FLW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de chem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Basée sur syntaxe X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Titres de chapitres dans un document livres.xml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livres.xml")//chapitre/tit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H" sz="2000" spc="-1" strike="noStrike">
                <a:solidFill>
                  <a:srgbClr val="000000"/>
                </a:solidFill>
                <a:latin typeface="Tahoma"/>
              </a:rPr>
              <a:t>Livres publiés par Addison-Wesley après 1991: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document("biblio.xml")//livre[editeur = "Addison-Wesley" AND @annee &gt; "1991"]</a:t>
            </a:r>
            <a:r>
              <a:rPr b="0" lang="fr-CH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Contructeurs d’élé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{} permet de placer une expression dans construc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@annee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{ $b/titre 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000" spc="-1" strike="noStrike">
                <a:solidFill>
                  <a:srgbClr val="000000"/>
                </a:solidFill>
                <a:latin typeface="Tahoma"/>
              </a:rPr>
              <a:t>Résult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livre annee="2004"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titre&gt;XQuery&lt;/titl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livre&gt;</a:t>
            </a:r>
            <a:r>
              <a:rPr b="0" lang="fr-CH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conditionnell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IF/THEN/E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utilisateur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umero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 $u/nom }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{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IF (empty($b))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THEN &lt;status&gt;inactif&lt;/status&gt;</a:t>
            </a:r>
            <a:br>
              <a:rPr sz="1800"/>
            </a:b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  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ELSE &lt;status&gt;actif&lt;/status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333399"/>
                </a:solidFill>
                <a:latin typeface="Tahoma"/>
              </a:rPr>
              <a:t>&lt;/utilsateur&gt;</a:t>
            </a:r>
            <a:r>
              <a:rPr b="0" lang="fr-CH" sz="1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pressions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Forme généra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FOR $&lt;var&gt; in &lt;forest&gt;, $&lt;var&gt; ...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itér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LET $&lt;var&gt; := &lt;subtree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assigna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WHERE &lt;condition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élagag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RETURN &lt;result&gt; 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// construction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400" spc="-1" strike="noStrike">
                <a:solidFill>
                  <a:srgbClr val="000000"/>
                </a:solidFill>
                <a:latin typeface="Tahoma"/>
              </a:rPr>
              <a:t>Similitude requête SQ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Tahoma"/>
              </a:rPr>
              <a:t>Exemple : FLW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s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FOR $t IN distinct(document("prix.xml")/prix/livre/titr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LET $p:=avg(document("prix.xml")/prix/livre[titre=$t]/prix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WHERE (document("biblio/xml")/livre[titre=$t]/editeur) = "Addison-Wesley"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RETURN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{ $t }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moy&gt;{ $p }&lt;/moy&gt;</a:t>
            </a:r>
            <a:br>
              <a:rPr sz="1600"/>
            </a:b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    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&gt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600" spc="-1" strike="noStrike">
                <a:solidFill>
                  <a:srgbClr val="333399"/>
                </a:solidFill>
                <a:latin typeface="Tahoma"/>
              </a:rPr>
              <a:t>&lt;/resultats&gt;</a:t>
            </a:r>
            <a:r>
              <a:rPr b="0" lang="fr-CH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7T06:37:05Z</dcterms:created>
  <dc:creator>James Bond</dc:creator>
  <dc:description/>
  <dc:language>en-US</dc:language>
  <cp:lastModifiedBy>" "</cp:lastModifiedBy>
  <dcterms:modified xsi:type="dcterms:W3CDTF">2004-04-28T04:39:38Z</dcterms:modified>
  <cp:revision>58</cp:revision>
  <dc:subject/>
  <dc:title>XML Que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