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</p:sldIdLst>
  <p:sldSz cx="9144000" cy="6858000"/>
  <p:notesSz cx="6742113" cy="9893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3712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3904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3000" y="53316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390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37124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3904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324480"/>
            <a:ext cx="9372600" cy="533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Feuilles de style XS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582320" y="6400800"/>
            <a:ext cx="113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A1873-DE86-4CD9-9977-D046566B0183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2285640"/>
            <a:ext cx="77724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000000"/>
                </a:solidFill>
                <a:latin typeface="Times New Roman"/>
              </a:rPr>
              <a:t>Feuilles de style XS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Fonctionnement de b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onctionnement géné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ègle modè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ésigner des nœu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ppliquer des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ègles par défaut et confl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Fonctionnement géné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Un fichier XSL est constitué de plusieurs règ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Appliquées sur l’arbre du document XM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Arbre source </a:t>
            </a: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Arbre sort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ègle : Programmation déclar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Décrit ce que l’on souha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Pas com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nséqu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Ordre des déclarations n’a pas d’import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Plus facile à analyser (pas effet de bord dûs a la manipulation de variab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Trait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Appel récursif des règles pour traiter l’arb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Règ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Éléments de base d’un document X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ègle = élément temp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nstituants principaux d’une rè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Un mot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Attribut ma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es actions à effectu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Contenus mix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appel XML (au cas ou)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e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2971800"/>
            <a:ext cx="3352680" cy="762120"/>
          </a:xfrm>
          <a:prstGeom prst="rect">
            <a:avLst/>
          </a:prstGeom>
          <a:solidFill>
            <a:srgbClr val="ccecff"/>
          </a:solidFill>
          <a:ln w="3816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Quand tu rencontr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562720" y="3886200"/>
            <a:ext cx="3352680" cy="762120"/>
          </a:xfrm>
          <a:prstGeom prst="rect">
            <a:avLst/>
          </a:prstGeom>
          <a:solidFill>
            <a:srgbClr val="ccecff"/>
          </a:solidFill>
          <a:ln w="3816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lors fai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800600" y="32004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00600" y="41148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66680" y="5334120"/>
            <a:ext cx="3505320" cy="7617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template match=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”un_motif”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[actions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&lt;/xsl:templat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105520" y="5334120"/>
            <a:ext cx="3504960" cy="7617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template match=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”nom”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nom trouv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&lt;/xsl:templat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Règ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nstituant principaux d’une rè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Un mot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Attribut ma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es actions à effectu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Contenus mix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562720" y="1828800"/>
            <a:ext cx="3352680" cy="762120"/>
          </a:xfrm>
          <a:prstGeom prst="rect">
            <a:avLst/>
          </a:prstGeom>
          <a:solidFill>
            <a:srgbClr val="ccecff"/>
          </a:solidFill>
          <a:ln w="3816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Quand tu rencontr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562720" y="3200400"/>
            <a:ext cx="3352680" cy="762120"/>
          </a:xfrm>
          <a:prstGeom prst="rect">
            <a:avLst/>
          </a:prstGeom>
          <a:noFill/>
          <a:ln w="3816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lors fai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800600" y="20574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800600" y="342900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Motif : Explic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Objectif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Identification des nœuds du document concernés par la règ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yntax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Attribut matc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Valeur est un chemin XP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Racine / Élément / Attribut / Com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Exe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désigne la racine du docu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règle ne rien fa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Quand tu rencontres la racine, tu ne fais ri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5638680"/>
            <a:ext cx="312408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Retourne un fichier XM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Presque vide (prologue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19320" y="4267080"/>
            <a:ext cx="4267080" cy="381240"/>
          </a:xfrm>
          <a:prstGeom prst="rect">
            <a:avLst/>
          </a:prstGeom>
          <a:solidFill>
            <a:srgbClr val="ccecff"/>
          </a:solidFill>
          <a:ln w="3816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template match =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”/” 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Motif: Exe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Exemples Règles vid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Écrire une  règle vide concernant la personne dont l’attribut ref est p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Écrire une règle vide concernant le premier message de la personne dont ref est p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1371600"/>
            <a:ext cx="7620120" cy="33526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?xml version="1.0" ?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forum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ersonnes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ersonne ref="p1"&gt;Thomas&lt;/personn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ersonne ref="p2"&gt;Lhoste&lt;/personn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personnes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messages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message ref="m1" expediteur="p1"&gt;Bonjour&lt;/messag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message ref="m2" expediteur="p2" anterieur="m1"&gt;Hello&lt;/messag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messages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forum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Motif : Remarq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actorisation de mot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Vous pouvez designer un node-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(tous les éléments correspondants seront traité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e qui utilisé comme attribut du ma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evient le Nœud contextuel du modè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mmence par la rac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emple (partir de la rac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295280" y="1905120"/>
            <a:ext cx="4267440" cy="3808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template match=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nom | preno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 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Motif : Attention quand mê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Il peut arriver que plusieurs règles puissent s’appliquer sur un élé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Exe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xsl:template match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//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/&g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xsl:template match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//personne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/&g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xsl:template match=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//personne[@ref= ‘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1 ‘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/&g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nflit à résoud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onc la troisième dans ce 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68360" y="5013360"/>
            <a:ext cx="5562720" cy="457200"/>
          </a:xfrm>
          <a:prstGeom prst="rect">
            <a:avLst/>
          </a:prstGeom>
          <a:solidFill>
            <a:srgbClr val="ccecff"/>
          </a:solidFill>
          <a:ln w="3816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La règle la plus spécifique s’appl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781680" y="3048120"/>
            <a:ext cx="1600200" cy="838080"/>
          </a:xfrm>
          <a:prstGeom prst="rect">
            <a:avLst/>
          </a:prstGeom>
          <a:solidFill>
            <a:srgbClr val="ccecff"/>
          </a:solidFill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Notez l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Simples quo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Règ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aintenant on sait désigner les éléments sur lesquels s’applique les rè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Que fait-on de ces éléments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nstituants principaux d’une règ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Un mot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Attribut ma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es actions à effectu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Contenus mix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562720" y="3581280"/>
            <a:ext cx="3352680" cy="76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Quand tu rencontr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562720" y="4952880"/>
            <a:ext cx="3352680" cy="762120"/>
          </a:xfrm>
          <a:prstGeom prst="rect">
            <a:avLst/>
          </a:prstGeom>
          <a:solidFill>
            <a:srgbClr val="ccecff"/>
          </a:solidFill>
          <a:ln w="3816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lors fait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800600" y="380988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5181480"/>
            <a:ext cx="685800" cy="304920"/>
          </a:xfrm>
          <a:prstGeom prst="rightArrow">
            <a:avLst>
              <a:gd name="adj1" fmla="val 50000"/>
              <a:gd name="adj2" fmla="val 56228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Plusieurs combinaison d’actions possi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Écrire directement dans le document de sor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tiliser des éléments XSLT pour faire des trai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ppliquer des autres règles templates définies dans le fichier X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résentation génér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onctionnement de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ntrôle du parc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utres fonctionnali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371600"/>
            <a:ext cx="343080" cy="457200"/>
          </a:xfrm>
          <a:prstGeom prst="foldedCorner">
            <a:avLst>
              <a:gd name="adj" fmla="val 429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286000"/>
            <a:ext cx="343080" cy="457200"/>
          </a:xfrm>
          <a:prstGeom prst="foldedCorner">
            <a:avLst>
              <a:gd name="adj" fmla="val 429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3124080"/>
            <a:ext cx="343080" cy="457200"/>
          </a:xfrm>
          <a:prstGeom prst="foldedCorner">
            <a:avLst>
              <a:gd name="adj" fmla="val 429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4038480"/>
            <a:ext cx="343080" cy="457200"/>
          </a:xfrm>
          <a:prstGeom prst="foldedCorner">
            <a:avLst>
              <a:gd name="adj" fmla="val 429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800600" y="1219320"/>
            <a:ext cx="2362320" cy="761760"/>
          </a:xfrm>
          <a:prstGeom prst="leftArrow">
            <a:avLst>
              <a:gd name="adj1" fmla="val 50000"/>
              <a:gd name="adj2" fmla="val 775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ction: Recop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ntenu textuel et sous-éléments avec balises (non xs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ecopie du texte et des élé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emarque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XSLT est X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bien forme</a:t>
            </a:r>
            <a:r>
              <a:rPr b="0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 Ces parties sont bien formé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emple de règle (pour produire du html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onne HTML bien form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5202360"/>
            <a:ext cx="2590920" cy="70776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?xml version=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“1.0”?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&lt;titre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200400" y="5257800"/>
            <a:ext cx="3886200" cy="457200"/>
          </a:xfrm>
          <a:prstGeom prst="rightArrow">
            <a:avLst>
              <a:gd name="adj1" fmla="val 31250"/>
              <a:gd name="adj2" fmla="val 121046"/>
            </a:avLst>
          </a:prstGeom>
          <a:solidFill>
            <a:srgbClr val="ccecff"/>
          </a:solidFill>
          <a:ln w="381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429000" y="5064120"/>
            <a:ext cx="2819520" cy="10782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template match=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“titre”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h1&gt;Titre&lt;/h1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238880" y="5257800"/>
            <a:ext cx="1676520" cy="337320"/>
          </a:xfrm>
          <a:prstGeom prst="rect">
            <a:avLst/>
          </a:pr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h1&gt;Titre&lt;/h1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xsl:var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Objectif : Définir des const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Essayer quand même de vous en affranchir au maximu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yntaxe: Élément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xsl:variab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Pas de cy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ccè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Dans toutes expression Xpa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Nom précédé de 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Exe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590920" y="5334120"/>
            <a:ext cx="5638680" cy="76176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variable name=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var_nom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gt;Thomas&lt;/xsl:variabl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template match=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ersonne[text()=$var_nom]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“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/&g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828800" y="2819520"/>
            <a:ext cx="5791320" cy="609480"/>
          </a:xfrm>
          <a:prstGeom prst="rect">
            <a:avLst/>
          </a:prstGeom>
          <a:solidFill>
            <a:srgbClr val="ccecff"/>
          </a:solidFill>
          <a:ln w="3816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variable name=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nom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&gt; definition &lt;/xsl:variabl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variable name=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nom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select= 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XPath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xsl:value-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bjecti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Extraire des informations de l’arbre-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yntaxe : élément xsl:value-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ésormais, c’est du X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Exe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3048120"/>
            <a:ext cx="5790960" cy="380880"/>
          </a:xfrm>
          <a:prstGeom prst="rect">
            <a:avLst/>
          </a:prstGeom>
          <a:solidFill>
            <a:srgbClr val="ccecff"/>
          </a:solidFill>
          <a:ln w="3816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value-of select=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XPath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“/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143000" y="4724280"/>
            <a:ext cx="7467480" cy="13716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value-of select=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“.“/&gt;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 les PCDATA du sous-arb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value-of select=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“text()“/&gt;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 le PCDATA du noeu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value-of select=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“personne/@ref“/&gt;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 attribut ref de l’élément person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value-of select=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“name()“/&gt;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 nom de l’élé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value-of select=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“$var“/&gt;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 contenu de la variable v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ction (autres règl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bjectif: appeler les autres règles modè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yntaxe: éléments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apply-templ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éman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ermet de lancer l’application des règles concernant les fils direc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Nœud contextu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ermet l’application récursive des règ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Parcours de l’arbre (attention, aux arrê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743200" y="2895480"/>
            <a:ext cx="4038480" cy="381240"/>
          </a:xfrm>
          <a:prstGeom prst="rect">
            <a:avLst/>
          </a:prstGeom>
          <a:solidFill>
            <a:srgbClr val="ccecff"/>
          </a:solidFill>
          <a:ln w="3816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&lt;xsl:apply-templates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  <a:ea typeface="Arial"/>
              </a:rPr>
              <a:t>/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aisonn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en récurs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ur chaque élé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n exe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6320" y="1371600"/>
            <a:ext cx="4800600" cy="2819520"/>
          </a:xfrm>
          <a:prstGeom prst="rect">
            <a:avLst/>
          </a:prstGeom>
          <a:solidFill>
            <a:srgbClr val="ccecff"/>
          </a:solidFill>
          <a:ln w="3816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Rac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Fo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Afficher les personnes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(règle sur personn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Afficher les messages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(règle sur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ersonn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Afficher chaque personne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(règle person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Afficher Chaque message 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(règle messa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ersonne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191120" y="2819520"/>
            <a:ext cx="4952880" cy="33526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?xml version="1.0" ?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u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personn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personne ref="p1"&gt;Thomas&lt;/personn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personne ref="p2"&gt;Lhoste&lt;/personn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personn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messag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message ref="m1" expediteur="p1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njour&lt;/messag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message ref="m2" expediteur="p2" anterieur="m1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&lt;/messag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messag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u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228240" y="761760"/>
            <a:ext cx="5791320" cy="4724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?xml version="1.0"?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xsl:stylesheet  version="1.0" xmlns:xsl="http://www.w3.org/1999/XSL/Transform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xsl:template match="/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xsl:apply-templates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xsl:template match="forum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xsl:apply-templates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xsl:template match="personnes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ersonnes &lt;br/&gt;&lt;xsl:apply-templates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xsl:template match="messages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br/&gt;Messages &lt;br/&gt;&lt;xsl:apply-templates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xsl:template match="personne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xsl:value-of select="."/&gt;&lt;br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xsl:template match="message"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xsl:value-of select="."/&gt;&lt;br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&lt;/xsl:styleshee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410080" y="1523880"/>
            <a:ext cx="990720" cy="457200"/>
          </a:xfrm>
          <a:prstGeom prst="rightArrow">
            <a:avLst>
              <a:gd name="adj1" fmla="val 50000"/>
              <a:gd name="adj2" fmla="val 54173"/>
            </a:avLst>
          </a:prstGeom>
          <a:solidFill>
            <a:srgbClr val="00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400800" y="838080"/>
            <a:ext cx="2590920" cy="3657600"/>
          </a:xfrm>
          <a:prstGeom prst="rect">
            <a:avLst/>
          </a:prstGeom>
          <a:solidFill>
            <a:srgbClr val="ccecff"/>
          </a:solidFill>
          <a:ln w="3816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Rac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fficher fo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Foru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fficher les ss-élé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personnes&gt;, &lt;messag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Personn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fficher « personne 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fficher chaque &lt;personn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fficher « message 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fficher Chaque &lt;message 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Personn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fficher le tex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Afficher le tex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553080" y="4648320"/>
            <a:ext cx="2362320" cy="16002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rsonnes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om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hoste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essages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onjou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ell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Exemple (f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avoir quand déclencher les règ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ar exemple faire un tableau de personnes en 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Ou mettre le début du tableau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Ou mettre la création de nouvelle ligne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Ou fermer le tableau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Exemple (f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avoir quand déclencher les règ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ar exemple faire un tableau de personnes en 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Ou mettre le début du tableau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dans la règle concernant &lt;personne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Ou mettre la création de nouvelle ligne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dans la règle concernant &lt;personn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Ou fermer le tableau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dans la règle concernant &lt;personne</a:t>
            </a:r>
            <a:r>
              <a:rPr b="0" lang="fr-FR" sz="1600" spc="-1" strike="noStrike" u="sng">
                <a:solidFill>
                  <a:srgbClr val="000000"/>
                </a:solidFill>
                <a:uFillTx/>
                <a:latin typeface="Times New Roman"/>
              </a:rPr>
              <a:t>s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676520" y="4038480"/>
            <a:ext cx="5790960" cy="21337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xsl:template match="personnes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ersonnes &lt;br/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table&gt;&lt;xsl:apply-templates/&gt;&lt;/tabl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xsl:template match="personne"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tr&gt;&lt;td&gt;&lt;xsl:value-of select="."/&gt;&lt;/td&gt;&lt;/t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Résum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Vous sav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Écrire des règ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Avec Templ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Mat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Utiliser ces règ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Début rac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Appel récursifs pour parcourir le docu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raitement simple dans l’ordre des élé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Règles par défa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ncore un peu plus d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lusieurs cho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ègles par défa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Élémen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Contenu textu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appel de l’application des règ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Applique la plus spécif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lan présentation génér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résentation génér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Object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yntax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Utili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58520" y="90360"/>
            <a:ext cx="23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résentation génér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Règles par défa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ègles par défaut pour les élé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acine / Élé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pplique les règles concernant sous-élé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ègles par défaut pour les contenus textu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Tous les nœuds tex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ffiche le conten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334120" y="1905120"/>
            <a:ext cx="3276360" cy="914400"/>
          </a:xfrm>
          <a:prstGeom prst="rect">
            <a:avLst/>
          </a:prstGeom>
          <a:solidFill>
            <a:srgbClr val="ccecff"/>
          </a:solidFill>
          <a:ln w="3816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xsl:template match="/|*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xsl:apply-templates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410080" y="4267080"/>
            <a:ext cx="3429000" cy="914400"/>
          </a:xfrm>
          <a:prstGeom prst="rect">
            <a:avLst/>
          </a:prstGeom>
          <a:solidFill>
            <a:srgbClr val="ccecff"/>
          </a:solidFill>
          <a:ln w="38160">
            <a:solidFill>
              <a:srgbClr val="00cc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xsl:template match="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ext(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xsl: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value-of select=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roblème ? Non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eux feuilles de sty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n a filtré l’élément rac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57080" y="90360"/>
            <a:ext cx="252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ba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066680" y="3124080"/>
            <a:ext cx="2667240" cy="9144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?xml version="1.0"?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xsl:stylesheet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xsl:styleshee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181480" y="3124080"/>
            <a:ext cx="3124440" cy="10670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?xml version="1.0"?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xsl:stylesheet  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xsl:template match="/"</a:t>
            </a: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/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xsl:styleshee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733920" y="1905120"/>
            <a:ext cx="1447560" cy="609480"/>
          </a:xfrm>
          <a:prstGeom prst="foldedCorner">
            <a:avLst>
              <a:gd name="adj" fmla="val 12500"/>
            </a:avLst>
          </a:prstGeom>
          <a:solidFill>
            <a:srgbClr val="cce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orum.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2"/>
            <a:endCxn id="216" idx="0"/>
          </p:cNvCxnSpPr>
          <p:nvPr/>
        </p:nvCxnSpPr>
        <p:spPr>
          <a:xfrm flipH="1">
            <a:off x="2400120" y="2514240"/>
            <a:ext cx="2057760" cy="610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0" name=""/>
          <p:cNvCxnSpPr>
            <a:stCxn id="218" idx="2"/>
            <a:endCxn id="217" idx="0"/>
          </p:cNvCxnSpPr>
          <p:nvPr/>
        </p:nvCxnSpPr>
        <p:spPr>
          <a:xfrm>
            <a:off x="4457880" y="2514240"/>
            <a:ext cx="2286720" cy="610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6" idx="2"/>
            <a:endCxn id="222" idx="0"/>
          </p:cNvCxnSpPr>
          <p:nvPr/>
        </p:nvCxnSpPr>
        <p:spPr>
          <a:xfrm>
            <a:off x="2400120" y="4038120"/>
            <a:ext cx="1080" cy="76284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2" name=""/>
          <p:cNvSpPr/>
          <p:nvPr/>
        </p:nvSpPr>
        <p:spPr>
          <a:xfrm>
            <a:off x="1066680" y="4800600"/>
            <a:ext cx="266724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asLhosteBonjourHell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410080" y="4800600"/>
            <a:ext cx="266724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4" name=""/>
          <p:cNvCxnSpPr>
            <a:stCxn id="217" idx="2"/>
            <a:endCxn id="223" idx="0"/>
          </p:cNvCxnSpPr>
          <p:nvPr/>
        </p:nvCxnSpPr>
        <p:spPr>
          <a:xfrm>
            <a:off x="6743520" y="4190760"/>
            <a:ext cx="1080" cy="610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résentation génér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onctionnement de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ntrôle du parc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utres fonctionnali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85800" y="1371600"/>
            <a:ext cx="343080" cy="457200"/>
          </a:xfrm>
          <a:prstGeom prst="foldedCorner">
            <a:avLst>
              <a:gd name="adj" fmla="val 429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2286000"/>
            <a:ext cx="343080" cy="457200"/>
          </a:xfrm>
          <a:prstGeom prst="foldedCorner">
            <a:avLst>
              <a:gd name="adj" fmla="val 429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3124080"/>
            <a:ext cx="343080" cy="45720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85800" y="4038480"/>
            <a:ext cx="343080" cy="457200"/>
          </a:xfrm>
          <a:prstGeom prst="foldedCorner">
            <a:avLst>
              <a:gd name="adj" fmla="val 429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800600" y="2971800"/>
            <a:ext cx="2362320" cy="762120"/>
          </a:xfrm>
          <a:prstGeom prst="leftArrow">
            <a:avLst>
              <a:gd name="adj1" fmla="val 50000"/>
              <a:gd name="adj2" fmla="val 77492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Toujours plus d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emple pour la production de fichier 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mment afficher les fils de discussion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mment afficher la liste des personne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Avec un menu et des liens vers leur descrip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Avec des liens vers les messages dont ils sont expédite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mment créer un lien des messages vers les expéditeur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mment limiter la profondeur de parcours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mment modifier l’ordre des éléments dans l’arbre de sortie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56720" y="90360"/>
            <a:ext cx="277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avancé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omment Ça marche (parcours)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bjecti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épondre à la ques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ntrôle du parc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ppels récursifs contrôl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Bouc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Tr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nditionnel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ppel direct à une règ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M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aramèt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57400" y="2286000"/>
            <a:ext cx="5791320" cy="838080"/>
          </a:xfrm>
          <a:prstGeom prst="rect">
            <a:avLst/>
          </a:prstGeom>
          <a:solidFill>
            <a:srgbClr val="ffffcc"/>
          </a:solidFill>
          <a:ln w="381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mment choisir les bonnes actions/règ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u bon moment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ontrôle appels récursif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Ordre des appels récursi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Ordre des élé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De la racine vers les feuil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Motiv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Utile d’appliquer les règles dans un certain ord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Afficher les personnes avant les messag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Code postal avant la vil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Utile de conditionner l’application de ces règ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Messages d’une personne donné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Vous pouvez contrôler apply-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Attribut sel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De valeur Xpa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ontrôle appels récursif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yntax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&lt;xsl:apply-templates select=XPAth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émanti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-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-Bold"/>
              </a:rPr>
              <a:t>Sans attribut </a:t>
            </a:r>
            <a:r>
              <a:rPr b="0" lang="fr-FR" sz="2000" spc="-1" strike="noStrike">
                <a:solidFill>
                  <a:srgbClr val="000000"/>
                </a:solidFill>
                <a:latin typeface="CourierNewPS-BoldMT"/>
              </a:rPr>
              <a:t>select</a:t>
            </a:r>
            <a:r>
              <a:rPr b="0" lang="fr-FR" sz="2000" spc="-1" strike="noStrike">
                <a:solidFill>
                  <a:srgbClr val="000000"/>
                </a:solidFill>
                <a:latin typeface="Verdana-Bold"/>
              </a:rPr>
              <a:t>, l'instruction </a:t>
            </a:r>
            <a:r>
              <a:rPr b="0" lang="fr-FR" sz="2000" spc="-1" strike="noStrike">
                <a:solidFill>
                  <a:srgbClr val="000000"/>
                </a:solidFill>
                <a:latin typeface="CourierNewPS-BoldMT"/>
              </a:rPr>
              <a:t>apply-templates </a:t>
            </a:r>
            <a:r>
              <a:rPr b="0" lang="fr-FR" sz="2000" spc="-1" strike="noStrike">
                <a:solidFill>
                  <a:srgbClr val="000000"/>
                </a:solidFill>
                <a:latin typeface="Verdana-Bold"/>
              </a:rPr>
              <a:t>traite les éléments dans l'ordre où ils apparaissent dans le docu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Verdana-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-Bold"/>
              </a:rPr>
              <a:t>L'attribut </a:t>
            </a:r>
            <a:r>
              <a:rPr b="0" lang="fr-FR" sz="2000" spc="-1" strike="noStrike">
                <a:solidFill>
                  <a:srgbClr val="000000"/>
                </a:solidFill>
                <a:latin typeface="CourierNewPS-BoldMT"/>
              </a:rPr>
              <a:t>select </a:t>
            </a:r>
            <a:r>
              <a:rPr b="0" lang="fr-FR" sz="2000" spc="-1" strike="noStrike">
                <a:solidFill>
                  <a:srgbClr val="000000"/>
                </a:solidFill>
                <a:latin typeface="Verdana-Bold"/>
              </a:rPr>
              <a:t>permet d'indiquer au moteur XSL de traiter uniquement les éléments qui vont correspondre au moti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bjectif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ermet de filtrer les éléments trai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’imbrication permet de contrôler l’ord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143000" y="1828800"/>
            <a:ext cx="5486400" cy="533520"/>
          </a:xfrm>
          <a:prstGeom prst="rect">
            <a:avLst/>
          </a:prstGeom>
          <a:solidFill>
            <a:srgbClr val="ffffcc"/>
          </a:solidFill>
          <a:ln w="381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&lt;xsl:apply-templates select=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i="1" lang="fr-FR" sz="2000" spc="-1" strike="noStrike">
                <a:solidFill>
                  <a:srgbClr val="000000"/>
                </a:solidFill>
                <a:latin typeface="Arial"/>
              </a:rPr>
              <a:t>motif XPa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 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es bou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Élément for-ea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yntax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émantique</a:t>
            </a: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our chaque élément correspondant au motif, effectuer les 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emar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Le nœud contextuel est modifi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eut s’effectuer avec des temp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23880" y="2666880"/>
            <a:ext cx="5181840" cy="990720"/>
          </a:xfrm>
          <a:prstGeom prst="rect">
            <a:avLst/>
          </a:prstGeom>
          <a:solidFill>
            <a:srgbClr val="ffffcc"/>
          </a:solidFill>
          <a:ln w="381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for-each select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motif XPa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[action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/xsl:for-eac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es boucles (exem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fficher toutes les person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200400" y="4952880"/>
            <a:ext cx="34290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o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hos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648320" y="434340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es boucles (exem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fficher toutes les person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447920" y="1905120"/>
            <a:ext cx="7010280" cy="25146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xsl:template match="forum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table border='2'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xsl:for-each select="personnes/personne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tr&gt;&lt;td&gt;&lt;xsl:value-of select="."/&gt;&lt;/td&gt;&lt;/t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xsl:for-each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200400" y="4952880"/>
            <a:ext cx="34290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o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hos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648320" y="434340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résentation généra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éparation des données de la présen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ntérê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Échange de feuille de style entre utilisateu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éutilisation possible des donné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résentations multiples des donné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Permet l’utilisation de styles utilisateu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Indépendant langages/logici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58520" y="90360"/>
            <a:ext cx="23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résentation génér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447920" y="1295280"/>
            <a:ext cx="6095880" cy="1143000"/>
            <a:chOff x="1447920" y="1295280"/>
            <a:chExt cx="6095880" cy="1143000"/>
          </a:xfrm>
        </p:grpSpPr>
        <p:sp>
          <p:nvSpPr>
            <p:cNvPr id="61" name=""/>
            <p:cNvSpPr/>
            <p:nvPr/>
          </p:nvSpPr>
          <p:spPr>
            <a:xfrm>
              <a:off x="1447920" y="1295280"/>
              <a:ext cx="93240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DT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Concep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029480" y="1295280"/>
              <a:ext cx="93240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XM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Donné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611400" y="1295280"/>
              <a:ext cx="932400" cy="114300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00"/>
                  </a:solidFill>
                  <a:latin typeface="Times New Roman"/>
                </a:rPr>
                <a:t>XS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Times New Roman"/>
                </a:rPr>
                <a:t>Traite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451600" y="1698480"/>
              <a:ext cx="1505880" cy="335880"/>
            </a:xfrm>
            <a:prstGeom prst="rightArrow">
              <a:avLst>
                <a:gd name="adj1" fmla="val 50000"/>
                <a:gd name="adj2" fmla="val 112085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33520" y="1698480"/>
              <a:ext cx="1505880" cy="335880"/>
            </a:xfrm>
            <a:prstGeom prst="rightArrow">
              <a:avLst>
                <a:gd name="adj1" fmla="val 50000"/>
                <a:gd name="adj2" fmla="val 112085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es tr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Utilise un ou plusieurs sous-éléments xsl:sort pour tri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xsl:for-each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&lt;xsl:apply-templates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yntaxe: élément xsl:s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émantiq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’attribut select désigne sur quel nœud effectuer le t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’attribut order spécifie l’ordre (ascending/descend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emarqu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Si plusieurs xsl:s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Tri par rapport au premier puis tri par rapport au second pour les doubl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Si il reste des doublons, utilise ordre d’appari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295280" y="3048120"/>
            <a:ext cx="5486400" cy="457200"/>
          </a:xfrm>
          <a:prstGeom prst="rect">
            <a:avLst/>
          </a:prstGeom>
          <a:solidFill>
            <a:srgbClr val="ffffcc"/>
          </a:solidFill>
          <a:ln w="381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sort select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motif XPa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 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rder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ord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 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es tris (exem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rier les messages par expédi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0880" y="5029200"/>
            <a:ext cx="5257800" cy="990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messag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message ref="m1" expediteur="p1"&gt;Bonjour&lt;/messag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message ref="m2" expediteur="p2" anterieur="m1"&gt;Hello&lt;/messag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messag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162920" y="434340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172200" y="5105520"/>
            <a:ext cx="243828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Hel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Bonjo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es tris (exem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rier les messages par expédi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447920" y="1905120"/>
            <a:ext cx="7010280" cy="25146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template match="messages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br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Messag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br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apply-templates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sort select="@expediteur" order="descending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/xsl:apply-templates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0880" y="5029200"/>
            <a:ext cx="5257800" cy="99072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messag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message ref="m1" expediteur="p1"&gt;Bonjour&lt;/messag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message ref="m2" expediteur="p2" anterieur="m1"&gt;Hello&lt;/messag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messages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162920" y="434340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172200" y="5105520"/>
            <a:ext cx="243828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Hel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Bonjou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es conditionnelles (xsl:if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yntaxe: élément xsl: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émantiqu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’attribut test désigne une expression retournant boolé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Une requête Xpath est val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es traitements sont effectués seulement si l’expression retourne tr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Exe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if test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name()=‘nom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if test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osition()=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371600" y="1828800"/>
            <a:ext cx="5562720" cy="914400"/>
          </a:xfrm>
          <a:prstGeom prst="rect">
            <a:avLst/>
          </a:prstGeom>
          <a:solidFill>
            <a:srgbClr val="ffffcc"/>
          </a:solidFill>
          <a:ln w="381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if test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expression XPa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[action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/xsl:if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Les conditionnelles (xsl:choo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ossibilité d’utiliser &lt;xsl:choos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yntax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émanti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és qu’une expression test est évaluée comme 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es actions correspondantes sont effectué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Le contrôle quitte l’élément &lt;xsl:choos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447920" y="2666880"/>
            <a:ext cx="7238880" cy="1676520"/>
          </a:xfrm>
          <a:prstGeom prst="rect">
            <a:avLst/>
          </a:prstGeom>
          <a:solidFill>
            <a:srgbClr val="ffffcc"/>
          </a:solidFill>
          <a:ln w="381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choos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when test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 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expression XPa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gt;[action1]&lt;/xsl:when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when test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 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expression XPa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gt;[action2]&lt;/xsl:when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otherwise&gt;[action3]&lt;/xsl:otherwis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/xls:choos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ppel explicite à une règ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ne règle peut avoir un nom et peut être appelée explicit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yntax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Nommer une règle: attribut name de &lt;xsl:templat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ppeler une règle: élément &lt;xsl:call-templat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tilité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ossibilité de définir des fonctions spécifiq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295280" y="3505320"/>
            <a:ext cx="5486400" cy="380880"/>
          </a:xfrm>
          <a:prstGeom prst="rect">
            <a:avLst/>
          </a:prstGeom>
          <a:solidFill>
            <a:srgbClr val="ffffcc"/>
          </a:solidFill>
          <a:ln w="381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template name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nom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295280" y="4495680"/>
            <a:ext cx="5486400" cy="381240"/>
          </a:xfrm>
          <a:prstGeom prst="rect">
            <a:avLst/>
          </a:prstGeom>
          <a:solidFill>
            <a:srgbClr val="ffffcc"/>
          </a:solidFill>
          <a:ln w="381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call-template name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nom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M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bjectif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Définir des règles différ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our les mêmes nœuds de l’arbre sour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Qui seront appelées à des endroits différ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yntax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pécifier un mode: attribut mode de &lt;xsl:templat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ppeler une règle dans un mode, attribut mode de &lt;apply-templates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553080" y="1981080"/>
            <a:ext cx="23623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able des matiè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248520" y="1752480"/>
            <a:ext cx="152280" cy="1143000"/>
          </a:xfrm>
          <a:custGeom>
            <a:avLst/>
            <a:gdLst>
              <a:gd name="textAreaLeft" fmla="*/ 0 w 152280"/>
              <a:gd name="textAreaRight" fmla="*/ 55080 w 15228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219320" y="4114800"/>
            <a:ext cx="6629400" cy="380880"/>
          </a:xfrm>
          <a:prstGeom prst="rect">
            <a:avLst/>
          </a:prstGeom>
          <a:solidFill>
            <a:srgbClr val="ffffcc"/>
          </a:solidFill>
          <a:ln w="381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template match="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XPath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" mode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nom_mod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219320" y="5067360"/>
            <a:ext cx="6629400" cy="380880"/>
          </a:xfrm>
          <a:prstGeom prst="rect">
            <a:avLst/>
          </a:prstGeom>
          <a:solidFill>
            <a:srgbClr val="ffffcc"/>
          </a:solidFill>
          <a:ln w="381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apply-templates select="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XPath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" mode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nom_mod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Modes (Table des messag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ne règle pour générer l’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ne règle pour produire les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Modes (Table des messag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ne règle pour générer l’inde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ne règle pour produire les mess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47920" y="1905120"/>
            <a:ext cx="7010280" cy="14475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template match="message" mode="index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b&gt;Message&lt;/b&gt; numéro: &lt;xsl:value-of select="@ref"/&gt;&lt;br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33520" y="4191120"/>
            <a:ext cx="8381880" cy="19047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template match="message" mode="texte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b&gt;Message &lt;/b&gt;: &lt;xsl:value-of select="@ref"/&gt;&lt;br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b&gt;Ref Expediteur&lt;/b&gt;: &lt;xsl:value-of select="@expediteur"/&gt;&lt;br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b&gt;Texte&lt;/b&gt;: &lt;xsl:value-of select="."/&gt;&lt;br/&gt;&lt;br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Modes (Table des messag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ne règle pour produire l’ensemble du doc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XS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XSL: « XML Style Language 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Traiter des documents X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our produire autres docu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eux types XS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XS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Permet de faire des transforma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XML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X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XML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HTM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XML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Tex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XSLF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Mise en page (namespace particuli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Utilisé avec des drive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Pour produire autres types de document (pdf, etc 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58520" y="90360"/>
            <a:ext cx="23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résentation génér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Modes (Table des messag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ne règle pour produire l’ensemble du docu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219320" y="2286000"/>
            <a:ext cx="7086600" cy="205740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template match="forum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index&lt;br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apply-templates select="//message" mode="index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exte&lt;br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apply-templates select="//message" mode="texte"/&gt;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assage de paramètres à une règ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Il est possible de passer des paramètres à une règ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yntaxe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Déclarer des paramètres : Elément &lt;xsl:par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Transmettre des paramètres : Elément &lt;xsl:with-par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Utilis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Utiliser &lt;xsl:param&g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comme sous-élément de la règle &lt;xsl:template …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Utiliser &lt;xsl:with-param&g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comme sous-élément de l’appel aux règles &lt;xsl:apply-templates…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219320" y="2895480"/>
            <a:ext cx="6629400" cy="381240"/>
          </a:xfrm>
          <a:prstGeom prst="rect">
            <a:avLst/>
          </a:prstGeom>
          <a:solidFill>
            <a:srgbClr val="ffffcc"/>
          </a:solidFill>
          <a:ln w="381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param name="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nom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219320" y="3733920"/>
            <a:ext cx="6629400" cy="380880"/>
          </a:xfrm>
          <a:prstGeom prst="rect">
            <a:avLst/>
          </a:prstGeom>
          <a:solidFill>
            <a:srgbClr val="ffffcc"/>
          </a:solidFill>
          <a:ln w="3816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with-param name="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nom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" select="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valeur_XPath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assage de paramètres (exem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fficher tous les messages d’un utilisa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ppel de la règle pour afficher tous les messages de p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assage de paramètres (exemp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fficher tous les messages d’un utilisate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ppel de la règle pour afficher tous les messages de p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219320" y="1905120"/>
            <a:ext cx="7010280" cy="144756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template match="messages" mode="messages_utilisateur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param name="ref_user"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apply-templates select="message[@expediteur=$ref_user]"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219320" y="4114800"/>
            <a:ext cx="7010280" cy="175248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template match="forum"&gt;Message utilisateur &lt;br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apply-templates select="messages" mode="messages_utilisateur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with-param name="ref_user" select="'p1'"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/xsl:apply-templates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onclusion (parcou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Vous savez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Exécuter les règles que vous avez définies dans un certain ord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Bouc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Contrôle des appels récurs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Tr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nditionner les appels de vos règ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Par un mot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Par un m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Par des paramèt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Effectuer des actions conditionné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Cho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Vous pouvez effectuer des traitements complex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54920" y="90360"/>
            <a:ext cx="29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onctionnement (parcour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résentation génér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onctionnement de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ntrôle du parc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utres fonctionnali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85800" y="1371600"/>
            <a:ext cx="343080" cy="457200"/>
          </a:xfrm>
          <a:prstGeom prst="foldedCorner">
            <a:avLst>
              <a:gd name="adj" fmla="val 429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85800" y="2286000"/>
            <a:ext cx="343080" cy="457200"/>
          </a:xfrm>
          <a:prstGeom prst="foldedCorner">
            <a:avLst>
              <a:gd name="adj" fmla="val 429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85800" y="3124080"/>
            <a:ext cx="343080" cy="457200"/>
          </a:xfrm>
          <a:prstGeom prst="foldedCorner">
            <a:avLst>
              <a:gd name="adj" fmla="val 4296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85800" y="4038480"/>
            <a:ext cx="343080" cy="457200"/>
          </a:xfrm>
          <a:prstGeom prst="foldedCorner">
            <a:avLst>
              <a:gd name="adj" fmla="val 429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876920" y="3886200"/>
            <a:ext cx="2361960" cy="762120"/>
          </a:xfrm>
          <a:prstGeom prst="leftArrow">
            <a:avLst>
              <a:gd name="adj1" fmla="val 50000"/>
              <a:gd name="adj2" fmla="val 7748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ormat de sort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pies d’élé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Utiliser XSL pour faire plusieurs documen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Inclusion et fragmentation de fichier X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57800" y="90360"/>
            <a:ext cx="24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utres fonctionnali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Format de sort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pécifier le format de sortie du document dest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yntaxe : Elément &lt;xsl:ouptu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émant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ttribut method désigne le type de sort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« xml » (avec un prolog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« html 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« text 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ttribut encod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ttribut indent =« yes/no »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(permet de faire indentation automatiq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57800" y="90360"/>
            <a:ext cx="24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utres fonctionnali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219320" y="2819520"/>
            <a:ext cx="6629400" cy="380880"/>
          </a:xfrm>
          <a:prstGeom prst="rect">
            <a:avLst/>
          </a:prstGeom>
          <a:solidFill>
            <a:srgbClr val="ffcc99"/>
          </a:solidFill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output method="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type_de_sorti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" encoding="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Code"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Copie éléments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r</a:t>
            </a: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52280" y="1752480"/>
            <a:ext cx="4648320" cy="32004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template match = "AAA" 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copy 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apply-templates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/xsl:cop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template match = "BBB" 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copy 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apply-templates select = "@*"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/xsl:cop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template match = "@*" 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copy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/xsl:templat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57800" y="90360"/>
            <a:ext cx="24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utres fonctionnali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952880" y="1163520"/>
            <a:ext cx="3505320" cy="2930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lt;AAA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truc=“foo”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lt;BBB ooo = "111" ppp = "222" 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lt;CCC&gt;c1 &lt;/CCC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lt;/BBB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lt;BBB ooo = "555" ppp = "666" 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lt;DDD&gt;d1 &lt;/DD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lt;/BBB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376200"/>
                <a:tab algn="l" pos="752400"/>
                <a:tab algn="l" pos="1128600"/>
                <a:tab algn="l" pos="1504800"/>
                <a:tab algn="l" pos="1881360"/>
                <a:tab algn="l" pos="2257560"/>
                <a:tab algn="l" pos="2633760"/>
                <a:tab algn="l" pos="3009960"/>
                <a:tab algn="l" pos="3386160"/>
                <a:tab algn="l" pos="3762360"/>
                <a:tab algn="l" pos="4138560"/>
                <a:tab algn="l" pos="4514760"/>
                <a:tab algn="l" pos="4890960"/>
                <a:tab algn="l" pos="5267160"/>
                <a:tab algn="l" pos="5643720"/>
                <a:tab algn="l" pos="6019920"/>
                <a:tab algn="l" pos="6396120"/>
                <a:tab algn="l" pos="6772320"/>
                <a:tab algn="l" pos="7148520"/>
                <a:tab algn="l" pos="752472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lt;/AAA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952880" y="4356000"/>
            <a:ext cx="3733920" cy="18190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lt;AAA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lt;BBB ooo="111" ppp="222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lt;BBB ooo="555" ppp="666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&lt;/AAA&gt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Fragmenter &amp; Réutiliser des feuilles de 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ermet d’inclure le contenu d’une autre feuille de style dans la feuille de style coura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yntax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e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57800" y="90360"/>
            <a:ext cx="24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utres fonctionnali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295280" y="3124080"/>
            <a:ext cx="6629400" cy="381240"/>
          </a:xfrm>
          <a:prstGeom prst="rect">
            <a:avLst/>
          </a:prstGeom>
          <a:solidFill>
            <a:srgbClr val="ffcc99"/>
          </a:solidFill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include href="</a:t>
            </a:r>
            <a:r>
              <a:rPr b="0" i="1" lang="fr-FR" sz="1800" spc="-1" strike="noStrike">
                <a:solidFill>
                  <a:srgbClr val="000000"/>
                </a:solidFill>
                <a:latin typeface="Arial"/>
              </a:rPr>
              <a:t>localisation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" 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219320" y="4572000"/>
            <a:ext cx="7010280" cy="121932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stylesheet … 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xsl:include href="fds2.xsl"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/xsl:stylesheet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Objectif XSL-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aire des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XML  </a:t>
            </a: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XM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Note : XHTML est du XML (avec balises prédéfini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XML  </a:t>
            </a: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HTM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XML  </a:t>
            </a: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Tex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Baser Sur le modè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Quelques Utilisations possib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Transformation de documents: XML</a:t>
            </a: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X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Sélection/Filt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Transformer en document valide pour une autre DT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Transformation de documents: XML</a:t>
            </a: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Mise en page sans toucher aux données sources X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58520" y="90360"/>
            <a:ext cx="23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résentation génér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19640" y="3200400"/>
            <a:ext cx="5419440" cy="380880"/>
          </a:xfrm>
          <a:prstGeom prst="rect">
            <a:avLst/>
          </a:prstGeom>
          <a:solidFill>
            <a:srgbClr val="99ffcc"/>
          </a:solidFill>
          <a:ln w="381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Moteur XSL, Quand tu rencontres tel élément, fais ceci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Fonction document(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Objectif : accéder au contenu de documents exter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Bien form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yntaxe: fonction document dans Chemin X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xe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757800" y="90360"/>
            <a:ext cx="24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Autres fonctionnalité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143000" y="3124080"/>
            <a:ext cx="7162920" cy="457200"/>
          </a:xfrm>
          <a:prstGeom prst="rect">
            <a:avLst/>
          </a:prstGeom>
          <a:solidFill>
            <a:srgbClr val="ffcc99"/>
          </a:solidFill>
          <a:ln w="38160">
            <a:solidFill>
              <a:srgbClr val="8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ocument</a:t>
            </a:r>
            <a:r>
              <a:rPr b="0" lang="fr-FR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i="1" lang="fr-FR" sz="1600" spc="-1" strike="noStrike">
                <a:solidFill>
                  <a:srgbClr val="000000"/>
                </a:solidFill>
                <a:latin typeface="Verdana"/>
              </a:rPr>
              <a:t>nom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)/</a:t>
            </a:r>
            <a:r>
              <a:rPr b="0" i="1" lang="fr-FR" sz="1600" spc="-1" strike="noStrike">
                <a:solidFill>
                  <a:srgbClr val="000000"/>
                </a:solidFill>
                <a:latin typeface="Verdana"/>
              </a:rPr>
              <a:t>suite_du_chem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143000" y="4495680"/>
            <a:ext cx="7315200" cy="106704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xsl:value-of select="document('celsius.xml')/celsius/result[@value=$value]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variable name="multi-res" select="document(http://…/ressources.xml)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Syntaxe XSL-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XSLT est un fichier X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Conséquence : Prolog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Utilise un namespa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acine : document stylesheet (balise ouvrante ET fermant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Namespace X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xs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Reference : « http://www.w3.org/1999/XSL/Transform 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14400" y="4724280"/>
            <a:ext cx="7620120" cy="1143000"/>
          </a:xfrm>
          <a:prstGeom prst="rect">
            <a:avLst/>
          </a:prstGeom>
          <a:solidFill>
            <a:srgbClr val="99ffcc"/>
          </a:solidFill>
          <a:ln w="381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?xml version=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”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1.0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”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?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xsl:stylesheet  version="1.0" xmlns:xsl="http://www.w3.org/1999/XSL/Transform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contenu 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6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&lt;/xsl:stylesheet&gt; 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58520" y="90360"/>
            <a:ext cx="23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résentation génér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tilis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Besoin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ichier X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Fichier XS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Moteur XS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58520" y="90360"/>
            <a:ext cx="2366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Présentation génér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résentation génér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onctionnement de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ntrôle du parco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utres fonctionnali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1600"/>
            <a:ext cx="343080" cy="457200"/>
          </a:xfrm>
          <a:prstGeom prst="foldedCorner">
            <a:avLst>
              <a:gd name="adj" fmla="val 429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85800" y="2286000"/>
            <a:ext cx="343080" cy="457200"/>
          </a:xfrm>
          <a:prstGeom prst="foldedCorner">
            <a:avLst>
              <a:gd name="adj" fmla="val 429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3124080"/>
            <a:ext cx="343080" cy="457200"/>
          </a:xfrm>
          <a:prstGeom prst="foldedCorner">
            <a:avLst>
              <a:gd name="adj" fmla="val 42967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4038480"/>
            <a:ext cx="343080" cy="457200"/>
          </a:xfrm>
          <a:prstGeom prst="foldedCorner">
            <a:avLst>
              <a:gd name="adj" fmla="val 429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76320"/>
            <a:ext cx="457200" cy="609480"/>
          </a:xfrm>
          <a:prstGeom prst="foldedCorner">
            <a:avLst>
              <a:gd name="adj" fmla="val 429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876920" y="2133720"/>
            <a:ext cx="2361960" cy="761760"/>
          </a:xfrm>
          <a:prstGeom prst="leftArrow">
            <a:avLst>
              <a:gd name="adj1" fmla="val 50000"/>
              <a:gd name="adj2" fmla="val 7751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halid</cp:lastModifiedBy>
  <dcterms:modified xsi:type="dcterms:W3CDTF">2007-07-12T14:59:50Z</dcterms:modified>
  <cp:revision>239</cp:revision>
  <dc:subject/>
  <dc:title>PowerPoint Presentation</dc:title>
</cp:coreProperties>
</file>