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68657-809A-4817-A787-538C2B153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F99BA-461C-4361-B90E-F20791763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65B6C-F37E-4871-BDF0-B2F3B44A3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66AE1-0FD1-4FBE-A4AD-6A304AFCF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410F0-85A4-49CB-AE5E-02F2007D7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762E2-17E1-4EB6-8043-D9419AB67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936B2-BB89-4C50-9588-F9B16816D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896D5-FF26-4AA7-8CAA-52917F8DA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D23A6-2561-4E65-8447-9BBCADB2E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1E2A2-02BA-4CD4-A139-2D10658FE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35827-FF90-4BB0-A23A-AD819E489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1ECC5-DD7D-453B-8A22-59C9C643D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87F05-6C91-428A-AF06-97C2F0503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5A2F7-B912-4D0D-9CDF-2CB478C32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E17CE-3F3E-47ED-86F1-65F90CD0B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EA474-58E1-407F-8DCF-145EFA6BC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015DA-CD91-4D7A-8FA9-1D3B2C268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5FB60-B6CF-4F4A-96FD-3F306F27B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13CC1-7B76-4927-AE80-2EBD0C5E7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CB31E-3046-4EFE-B3E1-F9231AE39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7C7ED-ACF0-4B2D-A814-6A1CA60C6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4A626-9853-4476-8BF4-FF6F5CBBA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BA113-28D8-447A-9E42-DF8657B6C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BEC25-3630-4968-8204-64CA2F693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H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H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H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F7F68-8BE5-4342-A1C5-D311AA7432A8}" type="slidenum">
              <a:rPr b="0" lang="fr-CH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H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H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H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4A9C4-5BF6-45BC-B955-5FDBB9C30298}" type="slidenum">
              <a:rPr b="0" lang="fr-CH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333399"/>
                </a:solidFill>
                <a:latin typeface="Tahoma"/>
              </a:rPr>
              <a:t>XML Query (XQuery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Tahoma"/>
              </a:rPr>
              <a:t>28 avril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Tahoma"/>
              </a:rPr>
              <a:t>Nicolas Décr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333399"/>
                </a:solidFill>
                <a:latin typeface="Tahoma"/>
              </a:rPr>
              <a:t>Exemple : opérateur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Tahoma"/>
              </a:rPr>
              <a:t>On retrouve les même opérateurs que dans les autres langag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&lt;result&g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LET $a := avg(//book/price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FOR $b IN /book WHERE $b/price &gt; $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&lt;expensive_book&g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{ $b/title 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&lt;price_difference&g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{ $b/price - $a 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&lt;/price_difference&g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&lt;/expensive_book&g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&lt;/result&g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333399"/>
                </a:solidFill>
                <a:latin typeface="Tahoma"/>
              </a:rPr>
              <a:t>Conlusion (1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Tahoma"/>
              </a:rPr>
              <a:t>Langage puissant et éléga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Tahoma"/>
              </a:rPr>
              <a:t>Par rapport à XSL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400" spc="-1" strike="noStrike">
                <a:solidFill>
                  <a:srgbClr val="000000"/>
                </a:solidFill>
                <a:latin typeface="Tahoma"/>
              </a:rPr>
              <a:t>approche globale, déclarativ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400" spc="-1" strike="noStrike">
                <a:solidFill>
                  <a:srgbClr val="000000"/>
                </a:solidFill>
                <a:latin typeface="Tahoma"/>
              </a:rPr>
              <a:t>XSLT 2.0 = sous-ensemble XQuery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Tahoma"/>
              </a:rPr>
              <a:t>Reste à faire ce qui marche en relationn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400" spc="-1" strike="noStrike">
                <a:solidFill>
                  <a:srgbClr val="000000"/>
                </a:solidFill>
                <a:latin typeface="Tahoma"/>
              </a:rPr>
              <a:t>optimisation des requête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400" spc="-1" strike="noStrike">
                <a:solidFill>
                  <a:srgbClr val="000000"/>
                </a:solidFill>
                <a:latin typeface="Tahoma"/>
              </a:rPr>
              <a:t>vue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400" spc="-1" strike="noStrike">
                <a:solidFill>
                  <a:srgbClr val="000000"/>
                </a:solidFill>
                <a:latin typeface="Tahoma"/>
              </a:rPr>
              <a:t>…</a:t>
            </a:r>
            <a:r>
              <a:rPr b="0" lang="fr-CH" sz="1400" spc="-1" strike="noStrike">
                <a:solidFill>
                  <a:srgbClr val="000000"/>
                </a:solidFill>
                <a:latin typeface="Tahoma"/>
              </a:rPr>
              <a:t>et les mises à jour (insert/delete/update) ?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333399"/>
                </a:solidFill>
                <a:latin typeface="Tahoma"/>
              </a:rPr>
              <a:t>Conclusion (2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Tahoma"/>
              </a:rPr>
              <a:t>Perte de complétude si pas de DT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400" spc="-1" strike="noStrike">
                <a:solidFill>
                  <a:srgbClr val="000000"/>
                </a:solidFill>
                <a:latin typeface="Tahoma"/>
              </a:rPr>
              <a:t>Pas de schéma=&gt; pas d’uniformité des noms =&gt; information cachée (perdue?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Tahoma"/>
              </a:rPr>
              <a:t>En théorie on peut représenter le relationnel en XM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400" spc="-1" strike="noStrike">
                <a:solidFill>
                  <a:srgbClr val="000000"/>
                </a:solidFill>
                <a:latin typeface="Tahoma"/>
              </a:rPr>
              <a:t>Et traduire le SQL en XQuery facilement, va-t-on le faire ?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Tahoma"/>
              </a:rPr>
              <a:t>Les bases de données objets ont échoué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400" spc="-1" strike="noStrike">
                <a:solidFill>
                  <a:srgbClr val="000000"/>
                </a:solidFill>
                <a:latin typeface="Tahoma"/>
              </a:rPr>
              <a:t>Sauf comme outil de persistance pour les langages C++/Jav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400" spc="-1" strike="noStrike">
                <a:solidFill>
                  <a:srgbClr val="000000"/>
                </a:solidFill>
                <a:latin typeface="Tahoma"/>
              </a:rPr>
              <a:t>…</a:t>
            </a:r>
            <a:r>
              <a:rPr b="0" lang="fr-CH" sz="1400" spc="-1" strike="noStrike">
                <a:solidFill>
                  <a:srgbClr val="000000"/>
                </a:solidFill>
                <a:latin typeface="Tahoma"/>
              </a:rPr>
              <a:t>et les bases XML ?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Tahoma"/>
              </a:rPr>
              <a:t>Pour en savoir plus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400" spc="-1" strike="noStrike">
                <a:solidFill>
                  <a:srgbClr val="000000"/>
                </a:solidFill>
                <a:latin typeface="Tahoma"/>
              </a:rPr>
              <a:t>http://www.w3.org/TR/xquery/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400" spc="-1" strike="noStrike">
                <a:solidFill>
                  <a:srgbClr val="000000"/>
                </a:solidFill>
                <a:latin typeface="Tahoma"/>
              </a:rPr>
              <a:t>http://www.datadirect.com/news/whatsnew/xquerybook/index.ssp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333399"/>
                </a:solidFill>
                <a:latin typeface="Tahoma"/>
              </a:rPr>
              <a:t>Exerci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400" spc="-1" strike="noStrike">
                <a:solidFill>
                  <a:srgbClr val="000000"/>
                </a:solidFill>
                <a:latin typeface="Tahoma"/>
              </a:rPr>
              <a:t>Document "Guide.xml"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&lt;Guide Version="3.0"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&lt;Restaurant type="auberge" categorie="**"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&lt;Nom&gt;Le Vieux Moulin&lt;/Nom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&lt;Adresse&gt;&lt;Rue&gt;du Salève&lt;/Rue&gt;&lt;Ville&gt;Drize&lt;/Ville&gt; &lt;/Adress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&lt;Gérant&gt;Dufourneau&lt;/Gérant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&lt;/Restaurant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&lt;Restaurant type="italien" categorie="***"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&lt;Nom&gt;Mamma Mia&lt;/Nom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&lt;Adresse&gt;&lt;Rue&gt;Georges Favon&lt;/Rue&gt;&lt;Ville&gt;Genève&lt;/Ville&gt; &lt;/Adress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&lt;Gérant&gt;Maldini&lt;/Gérant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&lt;/Restaurant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&lt;Restaurant type="gastronomique" categorie="***"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&lt;Nom&gt;L'Epicurien&lt;/Nom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&lt;Adresse&gt;&lt;Rue&gt;Bourg-de-Four&lt;/Rue&gt;&lt;Ville&gt;Genève&lt;/Ville&gt; &lt;/Adress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&lt;/Restaurant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&lt;Bar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&lt;Nom&gt;Le Tuyau&lt;/Nom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&lt;Adresse&gt;&lt;Rue&gt;Passage Monetier&lt;/Rue&gt;&lt;Ville&gt;Genève&lt;/Ville&gt; &lt;/Adress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&lt;/Bar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&lt;/Guid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333399"/>
                </a:solidFill>
                <a:latin typeface="Tahoma"/>
              </a:rPr>
              <a:t>Exercice (suit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600" spc="-1" strike="noStrike">
                <a:solidFill>
                  <a:srgbClr val="000000"/>
                </a:solidFill>
                <a:latin typeface="Tahoma"/>
              </a:rPr>
              <a:t>Document "Répertoire.xml"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&lt;Répertoire Version="1.0"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&lt;Hôtel confort="***"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&lt;Nom&gt;Suisse&lt;/Nom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&lt;Adresse&gt;&lt;Rue&gt;Cornavin&lt;/Rue&gt;&lt;Ville NP="1201"&gt;Genève&lt;/Ville&gt;&lt;/Adress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&lt;/Hôtel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&lt;Hôtel confort="**"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&lt;Nom&gt;Les Tourelles&lt;/Nom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&lt;Adresse&gt;&lt;Rue&gt;Georges Favon &lt;/Rue&gt;&lt;Ville NP="1204"&gt;Genève&lt;/Ville&gt;&lt;/Adress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&lt;/Hôtel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&lt;Hôtel confort="****"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&lt;Nom&gt;Edelweiss&lt;/Nom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&lt;Adresse&gt;&lt;Rue&gt;Rigistrasse&lt;/Rue&gt;&lt;Ville NP="6002"&gt;Lucerne&lt;/Ville&gt;&lt;/Adress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&lt;/Hôtel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&lt;Hôtel confort="***"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&lt;Nom&gt;Hôtel de la Truite&lt;/Nom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&lt;Adresse&gt;&lt;Rue&gt;Poste&lt;/Rue&gt;&lt;Ville NP="1342"&gt;Le Pont&lt;/Ville&gt;&lt;/Adress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&lt;/Hôtel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&lt;/Répertoir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333399"/>
                </a:solidFill>
                <a:latin typeface="Tahoma"/>
              </a:rPr>
              <a:t>Les questions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Tahoma"/>
              </a:rPr>
              <a:t>Q1: le nom et l'adresse des restaurants de Genè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Tahoma"/>
              </a:rPr>
              <a:t>Q2 (jointure): le nom des restaurants se trouvant dans la même rue que l'hôtel Les Tourel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Tahoma"/>
              </a:rPr>
              <a:t>Q3 (agrégation): combien y a t il de restaurants dans le gui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Tahoma"/>
              </a:rPr>
              <a:t>Q4 (imbrication de "for"): lister les valeurs de tous les attributs des hôtels (sous éléments compris) dont le libellé de la rue ou de la ville contient "Pont"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333399"/>
                </a:solidFill>
                <a:latin typeface="Tahoma"/>
              </a:rPr>
              <a:t>Solution pour Q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600" spc="-1" strike="noStrike">
                <a:solidFill>
                  <a:srgbClr val="000000"/>
                </a:solidFill>
                <a:latin typeface="Tahoma"/>
              </a:rPr>
              <a:t>Q1: le nom et l'adresse des restaurants de Genèv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FOR $r IN document("Guide.xml")/Guide/Restauran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WHERE $r/Adresse/Ville = "Genève"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RETURN &lt;Restaurant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&lt;Nom&gt; { $r/Nom } &lt;/Nom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&lt;Adresse&gt; { $r/Adresse/Rue } &lt;/Adress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&lt;/Restaurant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600" spc="-1" strike="noStrike">
                <a:solidFill>
                  <a:srgbClr val="000000"/>
                </a:solidFill>
                <a:latin typeface="Tahoma"/>
              </a:rPr>
              <a:t>Résultat de la requête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&lt;Restaurant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&lt;Nom&gt;Mamma Mia&lt;/Nom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&lt;Adresse&gt;Georges Favon&lt;/Adress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&lt;/Restaurant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&lt;Restaurant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&lt;Nom&gt;L'Epicurien&lt;/Nom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&lt;Adresse&gt;Bourg-de-Four&lt;/Adress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&lt;/Restaurant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333399"/>
                </a:solidFill>
                <a:latin typeface="Tahoma"/>
              </a:rPr>
              <a:t>Solution pour Q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600" spc="-1" strike="noStrike">
                <a:solidFill>
                  <a:srgbClr val="000000"/>
                </a:solidFill>
                <a:latin typeface="Tahoma"/>
              </a:rPr>
              <a:t>Q2 (jointure) : le nom des restaurants se trouvant dans la même rue que l’hôtel les  Tourell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FOR 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$r IN document("Guide.xml")/Guide/Restauran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$h IN document("Répertoire.xml")/Répertoire/Hôtel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WHERE $r//Rue = $h//Rue AND $h//Nom = "Les Tourelles"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RETURN &lt;Nom&gt; { $r/Nom } &lt;/Nom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600" spc="-1" strike="noStrike">
                <a:solidFill>
                  <a:srgbClr val="000000"/>
                </a:solidFill>
                <a:latin typeface="Tahoma"/>
              </a:rPr>
              <a:t>Résultat de la requête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  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&lt;Nom&gt;Mamma Mia&lt;/Nom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333399"/>
                </a:solidFill>
                <a:latin typeface="Tahoma"/>
              </a:rPr>
              <a:t>Solution pour Q3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Tahoma"/>
              </a:rPr>
              <a:t>Q3 (agrégation): combien y a t il de restaurants dans le guid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LET $r:=document("Guide.xml")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//Restauran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RETUR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&lt;NombreRestaurants&gt; count($r) &lt;/NombreRestaurants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Tahoma"/>
              </a:rPr>
              <a:t>Résultat de la requête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&lt;NombreRestaurants&gt;3&lt;/NombreRestaurants 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333399"/>
                </a:solidFill>
                <a:latin typeface="Tahoma"/>
              </a:rPr>
              <a:t>Solution pour Q4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Tahoma"/>
              </a:rPr>
              <a:t>Q4 (imbrication de "FOR"): lister les valeurs de tous les attributs des hôtels (sous-éléments compris) dont le libellé de la rue ou de la ville contient "Pont"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FOR $h IN document("Répertoire.xml")/Répertoire/Hôtel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WHERE $h/Adresse/(Rue|Ville) CONTAINS ("Pont"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RETURN &lt;Result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FOR $a IN $h//@* RETURN &lt;Attribut&gt; $a &lt;/Attribut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  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&lt;/Result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Tahoma"/>
              </a:rPr>
              <a:t>Résultat de la requête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&lt;Result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&lt;Attribut&gt;***&lt;/Attribut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&lt;Attribut&gt;1342&lt;/Attribut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&lt;Result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333399"/>
                </a:solidFill>
                <a:latin typeface="Tahoma"/>
              </a:rPr>
              <a:t>Pla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Tahoma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Tahoma"/>
              </a:rPr>
              <a:t>Les bases de XQue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Tahoma"/>
              </a:rPr>
              <a:t>Exe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Tahoma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Tahoma"/>
              </a:rPr>
              <a:t>Exerci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333399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Tahoma"/>
              </a:rPr>
              <a:t>Document XML comme B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Tahoma"/>
              </a:rPr>
              <a:t>Lancer requêtes sur documents XM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Tahoma"/>
              </a:rPr>
              <a:t>Dérivé de XPath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333399"/>
                </a:solidFill>
                <a:latin typeface="Tahoma"/>
              </a:rPr>
              <a:t>Les bases de XQuer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Tahoma"/>
              </a:rPr>
              <a:t>Chaque requête est une exp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Tahoma"/>
              </a:rPr>
              <a:t>Types d’express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Tahoma"/>
              </a:rPr>
              <a:t>expressions de chem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Tahoma"/>
              </a:rPr>
              <a:t>constructeurs d’élé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Tahoma"/>
              </a:rPr>
              <a:t>expressions conditionnel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Tahoma"/>
              </a:rPr>
              <a:t>expressions FLW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333399"/>
                </a:solidFill>
                <a:latin typeface="Tahoma"/>
              </a:rPr>
              <a:t>Expressions de chem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Tahoma"/>
              </a:rPr>
              <a:t>Basée sur syntaxe X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H" sz="2000" spc="-1" strike="noStrike">
                <a:solidFill>
                  <a:srgbClr val="000000"/>
                </a:solidFill>
                <a:latin typeface="Tahoma"/>
              </a:rPr>
              <a:t>Titres de chapitres dans un document livres.xml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333399"/>
                </a:solidFill>
                <a:latin typeface="Tahoma"/>
              </a:rPr>
              <a:t>document("livres.xml")//chapitre/titr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H" sz="2000" spc="-1" strike="noStrike">
                <a:solidFill>
                  <a:srgbClr val="000000"/>
                </a:solidFill>
                <a:latin typeface="Tahoma"/>
              </a:rPr>
              <a:t>Livres publiés par Addison-Wesley après 1991:</a:t>
            </a:r>
            <a:r>
              <a:rPr b="0" lang="fr-CH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333399"/>
                </a:solidFill>
                <a:latin typeface="Tahoma"/>
              </a:rPr>
              <a:t>document("biblio.xml")//livre[editeur = "Addison-Wesley" AND @annee &gt; "1991"]</a:t>
            </a:r>
            <a:r>
              <a:rPr b="0" lang="fr-CH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333399"/>
                </a:solidFill>
                <a:latin typeface="Tahoma"/>
              </a:rPr>
              <a:t>Contructeurs d’élé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Tahoma"/>
              </a:rPr>
              <a:t>{} permet de placer une expression dans construc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333399"/>
                </a:solidFill>
                <a:latin typeface="Tahoma"/>
              </a:rPr>
              <a:t>&lt;livre&gt;</a:t>
            </a:r>
            <a:br>
              <a:rPr sz="1800"/>
            </a:br>
            <a:r>
              <a:rPr b="0" lang="fr-CH" sz="1800" spc="-1" strike="noStrike">
                <a:solidFill>
                  <a:srgbClr val="333399"/>
                </a:solidFill>
                <a:latin typeface="Tahoma"/>
              </a:rPr>
              <a:t> { $b/@annee }</a:t>
            </a:r>
            <a:br>
              <a:rPr sz="1800"/>
            </a:br>
            <a:r>
              <a:rPr b="0" lang="fr-CH" sz="1800" spc="-1" strike="noStrike">
                <a:solidFill>
                  <a:srgbClr val="333399"/>
                </a:solidFill>
                <a:latin typeface="Tahoma"/>
              </a:rPr>
              <a:t> { $b/titre 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333399"/>
                </a:solidFill>
                <a:latin typeface="Tahoma"/>
              </a:rPr>
              <a:t>&lt;/livre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Tahoma"/>
              </a:rPr>
              <a:t>Résult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333399"/>
                </a:solidFill>
                <a:latin typeface="Tahoma"/>
              </a:rPr>
              <a:t>&lt;livre annee="2004"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800" spc="-1" strike="noStrike">
                <a:solidFill>
                  <a:srgbClr val="333399"/>
                </a:solidFill>
                <a:latin typeface="Tahoma"/>
              </a:rPr>
              <a:t>&lt;titre&gt;XQuery&lt;/title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333399"/>
                </a:solidFill>
                <a:latin typeface="Tahoma"/>
              </a:rPr>
              <a:t>&lt;/livre&gt;</a:t>
            </a:r>
            <a:r>
              <a:rPr b="0" lang="fr-CH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333399"/>
                </a:solidFill>
                <a:latin typeface="Tahoma"/>
              </a:rPr>
              <a:t>Expressions conditionnell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Tahoma"/>
              </a:rPr>
              <a:t>IF/THEN/EL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333399"/>
                </a:solidFill>
                <a:latin typeface="Tahoma"/>
              </a:rPr>
              <a:t>&lt;utilisateur&gt;</a:t>
            </a:r>
            <a:br>
              <a:rPr sz="1800"/>
            </a:br>
            <a:r>
              <a:rPr b="0" lang="fr-CH" sz="1800" spc="-1" strike="noStrike">
                <a:solidFill>
                  <a:srgbClr val="333399"/>
                </a:solidFill>
                <a:latin typeface="Tahoma"/>
              </a:rPr>
              <a:t>  { $u/numero }</a:t>
            </a:r>
            <a:br>
              <a:rPr sz="1800"/>
            </a:br>
            <a:r>
              <a:rPr b="0" lang="fr-CH" sz="1800" spc="-1" strike="noStrike">
                <a:solidFill>
                  <a:srgbClr val="333399"/>
                </a:solidFill>
                <a:latin typeface="Tahoma"/>
              </a:rPr>
              <a:t>  { $u/nom }</a:t>
            </a:r>
            <a:br>
              <a:rPr sz="1800"/>
            </a:br>
            <a:r>
              <a:rPr b="0" lang="fr-CH" sz="1800" spc="-1" strike="noStrike">
                <a:solidFill>
                  <a:srgbClr val="333399"/>
                </a:solidFill>
                <a:latin typeface="Tahoma"/>
              </a:rPr>
              <a:t>  {</a:t>
            </a:r>
            <a:r>
              <a:rPr b="0" lang="fr-CH" sz="18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800" spc="-1" strike="noStrike">
                <a:solidFill>
                  <a:srgbClr val="333399"/>
                </a:solidFill>
                <a:latin typeface="Tahoma"/>
              </a:rPr>
              <a:t>IF (empty($b))</a:t>
            </a:r>
            <a:br>
              <a:rPr sz="1800"/>
            </a:br>
            <a:r>
              <a:rPr b="0" lang="fr-CH" sz="1800" spc="-1" strike="noStrike">
                <a:solidFill>
                  <a:srgbClr val="333399"/>
                </a:solidFill>
                <a:latin typeface="Tahoma"/>
              </a:rPr>
              <a:t>  </a:t>
            </a:r>
            <a:r>
              <a:rPr b="0" lang="fr-CH" sz="1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800" spc="-1" strike="noStrike">
                <a:solidFill>
                  <a:srgbClr val="333399"/>
                </a:solidFill>
                <a:latin typeface="Tahoma"/>
              </a:rPr>
              <a:t>THEN &lt;status&gt;inactif&lt;/status&gt;</a:t>
            </a:r>
            <a:br>
              <a:rPr sz="1800"/>
            </a:br>
            <a:r>
              <a:rPr b="0" lang="fr-CH" sz="1800" spc="-1" strike="noStrike">
                <a:solidFill>
                  <a:srgbClr val="333399"/>
                </a:solidFill>
                <a:latin typeface="Tahoma"/>
              </a:rPr>
              <a:t>  </a:t>
            </a:r>
            <a:r>
              <a:rPr b="0" lang="fr-CH" sz="1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800" spc="-1" strike="noStrike">
                <a:solidFill>
                  <a:srgbClr val="333399"/>
                </a:solidFill>
                <a:latin typeface="Tahoma"/>
              </a:rPr>
              <a:t>ELSE &lt;status&gt;actif&lt;/status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800" spc="-1" strike="noStrike">
                <a:solidFill>
                  <a:srgbClr val="333399"/>
                </a:solidFill>
                <a:latin typeface="Tahoma"/>
              </a:rPr>
              <a:t>  </a:t>
            </a:r>
            <a:r>
              <a:rPr b="0" lang="fr-CH" sz="1800" spc="-1" strike="noStrike">
                <a:solidFill>
                  <a:srgbClr val="333399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333399"/>
                </a:solidFill>
                <a:latin typeface="Tahoma"/>
              </a:rPr>
              <a:t>&lt;/utilsateur&gt;</a:t>
            </a:r>
            <a:r>
              <a:rPr b="0" lang="fr-CH" sz="1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333399"/>
                </a:solidFill>
                <a:latin typeface="Tahoma"/>
              </a:rPr>
              <a:t>Expressions FLW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Tahoma"/>
              </a:rPr>
              <a:t>Forme généra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FOR $&lt;var&gt; in &lt;forest&gt;, $&lt;var&gt; ... </a:t>
            </a: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// itératio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LET $&lt;var&gt; := &lt;subtree&gt; </a:t>
            </a: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// assignatio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WHERE &lt;condition&gt; </a:t>
            </a: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// élagag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RETURN &lt;result&gt; </a:t>
            </a: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// constructio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Tahoma"/>
              </a:rPr>
              <a:t>Similitude requête SQ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333399"/>
                </a:solidFill>
                <a:latin typeface="Tahoma"/>
              </a:rPr>
              <a:t>Exemple : FLW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600" spc="-1" strike="noStrike">
                <a:solidFill>
                  <a:srgbClr val="333399"/>
                </a:solidFill>
                <a:latin typeface="Tahoma"/>
              </a:rPr>
              <a:t>&lt;resultats&g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600" spc="-1" strike="noStrike">
                <a:solidFill>
                  <a:srgbClr val="333399"/>
                </a:solidFill>
                <a:latin typeface="Tahoma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600" spc="-1" strike="noStrike">
                <a:solidFill>
                  <a:srgbClr val="333399"/>
                </a:solidFill>
                <a:latin typeface="Tahoma"/>
              </a:rPr>
              <a:t>FOR $t IN distinct(document("prix.xml")/prix/livre/titre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6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600" spc="-1" strike="noStrike">
                <a:solidFill>
                  <a:srgbClr val="333399"/>
                </a:solidFill>
                <a:latin typeface="Tahoma"/>
              </a:rPr>
              <a:t>LET $p:=avg(document("prix.xml")/prix/livre[titre=$t]/prix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6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600" spc="-1" strike="noStrike">
                <a:solidFill>
                  <a:srgbClr val="333399"/>
                </a:solidFill>
                <a:latin typeface="Tahoma"/>
              </a:rPr>
              <a:t>WHERE (document("biblio/xml")/livre[titre=$t]/editeur) = "Addison-Wesley"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600" spc="-1" strike="noStrike">
                <a:solidFill>
                  <a:srgbClr val="333399"/>
                </a:solidFill>
                <a:latin typeface="Tahoma"/>
              </a:rPr>
              <a:t>RETURN</a:t>
            </a:r>
            <a:br>
              <a:rPr sz="1600"/>
            </a:br>
            <a:r>
              <a:rPr b="0" lang="fr-CH" sz="1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600" spc="-1" strike="noStrike">
                <a:solidFill>
                  <a:srgbClr val="333399"/>
                </a:solidFill>
                <a:latin typeface="Tahoma"/>
              </a:rPr>
              <a:t>&lt;resultat&g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600" spc="-1" strike="noStrike">
                <a:solidFill>
                  <a:srgbClr val="333399"/>
                </a:solidFill>
                <a:latin typeface="Tahoma"/>
              </a:rPr>
              <a:t>{ $t }</a:t>
            </a:r>
            <a:br>
              <a:rPr sz="1600"/>
            </a:br>
            <a:r>
              <a:rPr b="0" lang="fr-CH" sz="1600" spc="-1" strike="noStrike">
                <a:solidFill>
                  <a:srgbClr val="333399"/>
                </a:solidFill>
                <a:latin typeface="Tahoma"/>
              </a:rPr>
              <a:t>     </a:t>
            </a:r>
            <a:r>
              <a:rPr b="0" lang="fr-CH" sz="1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600" spc="-1" strike="noStrike">
                <a:solidFill>
                  <a:srgbClr val="333399"/>
                </a:solidFill>
                <a:latin typeface="Tahoma"/>
              </a:rPr>
              <a:t>&lt;moy&gt;{ $p }&lt;/moy&gt;</a:t>
            </a:r>
            <a:br>
              <a:rPr sz="1600"/>
            </a:br>
            <a:r>
              <a:rPr b="0" lang="fr-CH" sz="1600" spc="-1" strike="noStrike">
                <a:solidFill>
                  <a:srgbClr val="333399"/>
                </a:solidFill>
                <a:latin typeface="Tahoma"/>
              </a:rPr>
              <a:t>    </a:t>
            </a:r>
            <a:r>
              <a:rPr b="0" lang="fr-CH" sz="1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600" spc="-1" strike="noStrike">
                <a:solidFill>
                  <a:srgbClr val="333399"/>
                </a:solidFill>
                <a:latin typeface="Tahoma"/>
              </a:rPr>
              <a:t>&lt;/resultat&g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600" spc="-1" strike="noStrike">
                <a:solidFill>
                  <a:srgbClr val="333399"/>
                </a:solidFill>
                <a:latin typeface="Tahoma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600" spc="-1" strike="noStrike">
                <a:solidFill>
                  <a:srgbClr val="333399"/>
                </a:solidFill>
                <a:latin typeface="Tahoma"/>
              </a:rPr>
              <a:t>&lt;/resultats&gt;</a:t>
            </a:r>
            <a:r>
              <a:rPr b="0" lang="fr-CH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7T06:37:05Z</dcterms:created>
  <dc:creator>James Bond</dc:creator>
  <dc:description/>
  <dc:language>en-US</dc:language>
  <cp:lastModifiedBy>" "</cp:lastModifiedBy>
  <dcterms:modified xsi:type="dcterms:W3CDTF">2004-04-28T04:39:38Z</dcterms:modified>
  <cp:revision>58</cp:revision>
  <dc:subject/>
  <dc:title>XML Quer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5</vt:r8>
  </property>
</Properties>
</file>