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ED2A-7A04-434A-8FC5-DC511E0D4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7381-6B64-4E9F-854C-3757757BD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AB35-1C52-4F93-A0C4-A110AF9FC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258A-6A68-41C3-8119-F9641F450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EB0CA-8A8C-4272-98E2-D77516C4B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6A4B1-5F6B-4E68-83DD-9019E6749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A8099-363C-4EBC-A30E-ED3183011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63322-70E8-4957-95AD-86C56EF6C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DED49-6100-4910-85B9-B5827E991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35AC4-13FC-433D-A9DC-44C3DBEEE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265AE-7B62-4F3A-AD86-6B0790655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E71D-B3CC-4E0E-BF0F-12D55BE4C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4920C-B55C-4770-9665-F24A1E3C3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765DE-0D56-45CA-9DA9-5FCB6ABE8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6BD58-C1AD-44E8-ABD8-5BC8F58FE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53FEC-E1CC-4378-A4ED-F88983734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D4732-1931-4C25-B32D-3B06C2E29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F419-2E41-4C89-BC1E-D259234B5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CD66-0A60-4A3C-AC7F-57657EC8E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2552-F351-4F9C-B905-302CEEE34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4867-7B72-4F39-9207-19AC4EC2E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EF7C-1C30-4F2B-A4A9-E7A04AD1D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565D-FD44-4B40-B855-C05C73DCE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8778-0A11-486C-8381-051ECD286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FD880-BCCE-47E1-B298-163C8A4F1555}" type="slidenum">
              <a:rPr b="0" lang="fr-CH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EEB98-895F-4D0F-AE2D-5922A72BFE8D}" type="slidenum">
              <a:rPr b="0" lang="fr-CH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XML Query (XQuery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ahoma"/>
              </a:rPr>
              <a:t>28 avril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ahoma"/>
              </a:rPr>
              <a:t>Nicolas Décr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Exemple : opérateur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ahoma"/>
              </a:rPr>
              <a:t>On retrouve les même opérateurs que dans les autres langag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&lt;result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LET $a := avg(//book/price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FOR $b IN /book WHERE $b/price &gt; $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&lt;expensive_book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{ $b/title 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&lt;price_difference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{ $b/price - $a 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&lt;/price_difference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&lt;/expensive_book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&lt;/result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Conlusion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ahoma"/>
              </a:rPr>
              <a:t>Langage puissant et éléga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ahoma"/>
              </a:rPr>
              <a:t>Par rapport à XSL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approche globale, déclarativ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XSLT 2.0 = sous-ensemble XQuer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ahoma"/>
              </a:rPr>
              <a:t>Reste à faire ce qui marche en relationn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optimisation des requêt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vu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et les mises à jour (insert/delete/update) ?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Conclusion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ahoma"/>
              </a:rPr>
              <a:t>Perte de complétude si pas de DT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Pas de schéma=&gt; pas d’uniformité des noms =&gt; information cachée (perdue?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ahoma"/>
              </a:rPr>
              <a:t>En théorie on peut représenter le relationnel en XM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Et traduire le SQL en XQuery facilement, va-t-on le faire ?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ahoma"/>
              </a:rPr>
              <a:t>Les bases de données objets ont échoué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Sauf comme outil de persistance pour les langages C++/Jav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et les bases XML ?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ahoma"/>
              </a:rPr>
              <a:t>Pour en savoir plu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http://www.w3.org/TR/xquery/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http://www.datadirect.com/news/whatsnew/xquerybook/index.ssp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Exerci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Document "Guide.xml"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Guide Version="3.0"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Restaurant type="auberge" categorie="**"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Nom&gt;Le Vieux Moulin&lt;/Nom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Adresse&gt;&lt;Rue&gt;du Salève&lt;/Rue&gt;&lt;Ville&gt;Drize&lt;/Ville&gt; &lt;/Adress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Gérant&gt;Dufourneau&lt;/Géran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/Restauran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Restaurant type="italien" categorie="***"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Nom&gt;Mamma Mia&lt;/Nom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Adresse&gt;&lt;Rue&gt;Georges Favon&lt;/Rue&gt;&lt;Ville&gt;Genève&lt;/Ville&gt; &lt;/Adress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Gérant&gt;Maldini&lt;/Géran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/Restauran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Restaurant type="gastronomique" categorie="***"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Nom&gt;L'Epicurien&lt;/Nom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Adresse&gt;&lt;Rue&gt;Bourg-de-Four&lt;/Rue&gt;&lt;Ville&gt;Genève&lt;/Ville&gt; &lt;/Adress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/Restauran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Bar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Nom&gt;Le Tuyau&lt;/Nom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Adresse&gt;&lt;Rue&gt;Passage Monetier&lt;/Rue&gt;&lt;Ville&gt;Genève&lt;/Ville&gt; &lt;/Adress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/Bar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/Guid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Exercice (suit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Tahoma"/>
              </a:rPr>
              <a:t>Document "Répertoire.xml"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Répertoire Version="1.0"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Hôtel confort="***"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Nom&gt;Suisse&lt;/Nom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Adresse&gt;&lt;Rue&gt;Cornavin&lt;/Rue&gt;&lt;Ville NP="1201"&gt;Genève&lt;/Ville&gt;&lt;/Adress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/Hôtel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Hôtel confort="**"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Nom&gt;Les Tourelles&lt;/Nom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Adresse&gt;&lt;Rue&gt;Georges Favon &lt;/Rue&gt;&lt;Ville NP="1204"&gt;Genève&lt;/Ville&gt;&lt;/Adress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/Hôtel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Hôtel confort="****"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Nom&gt;Edelweiss&lt;/Nom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Adresse&gt;&lt;Rue&gt;Rigistrasse&lt;/Rue&gt;&lt;Ville NP="6002"&gt;Lucerne&lt;/Ville&gt;&lt;/Adress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/Hôtel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Hôtel confort="***"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Nom&gt;Hôtel de la Truite&lt;/Nom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Adresse&gt;&lt;Rue&gt;Poste&lt;/Rue&gt;&lt;Ville NP="1342"&gt;Le Pont&lt;/Ville&gt;&lt;/Adress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/Hôtel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/Répertoir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Les question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ahoma"/>
              </a:rPr>
              <a:t>Q1: le nom et l'adresse des restaurants de Genè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ahoma"/>
              </a:rPr>
              <a:t>Q2 (jointure): le nom des restaurants se trouvant dans la même rue que l'hôtel Les Tourel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ahoma"/>
              </a:rPr>
              <a:t>Q3 (agrégation): combien y a t il de restaurants dans le gu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ahoma"/>
              </a:rPr>
              <a:t>Q4 (imbrication de "for"): lister les valeurs de tous les attributs des hôtels (sous éléments compris) dont le libellé de la rue ou de la ville contient "Pont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Solution pour Q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Tahoma"/>
              </a:rPr>
              <a:t>Q1: le nom et l'adresse des restaurants de Genèv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FOR $r IN document("Guide.xml")/Guide/Restaura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WHERE $r/Adresse/Ville = "Genève"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RETURN &lt;Restauran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Nom&gt; { $r/Nom } &lt;/Nom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Adresse&gt; { $r/Adresse/Rue } &lt;/Adress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/Restauran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Tahoma"/>
              </a:rPr>
              <a:t>Résultat de la requête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Restauran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Nom&gt;Mamma Mia&lt;/Nom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Adresse&gt;Georges Favon&lt;/Adress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/Restauran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Restauran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Nom&gt;L'Epicurien&lt;/Nom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Adresse&gt;Bourg-de-Four&lt;/Adress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/Restauran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Solution pour Q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Tahoma"/>
              </a:rPr>
              <a:t>Q2 (jointure) : le nom des restaurants se trouvant dans la même rue que l’hôtel les  Tourell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FOR 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$r IN document("Guide.xml")/Guide/Restaura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$h IN document("Répertoire.xml")/Répertoire/Hôte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WHERE $r//Rue = $h//Rue AND $h//Nom = "Les Tourelles"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RETURN &lt;Nom&gt; { $r/Nom } &lt;/Nom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Tahoma"/>
              </a:rPr>
              <a:t>Résultat de la requête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Nom&gt;Mamma Mia&lt;/Nom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Solution pour Q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ahoma"/>
              </a:rPr>
              <a:t>Q3 (agrégation): combien y a t il de restaurants dans le guid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LET $r:=document("Guide.xml")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//Restaura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RETUR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NombreRestaurants&gt; count($r) &lt;/NombreRestaurants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ahoma"/>
              </a:rPr>
              <a:t>Résultat de la requête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NombreRestaurants&gt;3&lt;/NombreRestaurants 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Solution pour Q4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ahoma"/>
              </a:rPr>
              <a:t>Q4 (imbrication de "FOR"): lister les valeurs de tous les attributs des hôtels (sous-éléments compris) dont le libellé de la rue ou de la ville contient "Pont"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FOR $h IN document("Répertoire.xml")/Répertoire/Hôte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WHERE $h/Adresse/(Rue|Ville) CONTAINS ("Pont"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RETURN &lt;Resul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FOR $a IN $h//@* RETURN &lt;Attribut&gt; $a &lt;/Attribu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/Resul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ahoma"/>
              </a:rPr>
              <a:t>Résultat de la requête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Resul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Attribut&gt;***&lt;/Attribu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Attribut&gt;1342&lt;/Attribu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Resul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Pla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ahoma"/>
              </a:rPr>
              <a:t>Les bases de X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ahoma"/>
              </a:rPr>
              <a:t>Exe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ahoma"/>
              </a:rPr>
              <a:t>Exerc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ahoma"/>
              </a:rPr>
              <a:t>Document XML comme B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ahoma"/>
              </a:rPr>
              <a:t>Lancer requêtes sur documents X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ahoma"/>
              </a:rPr>
              <a:t>Dérivé de XPath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Les bases de XQue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ahoma"/>
              </a:rPr>
              <a:t>Chaque requête est une exp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ahoma"/>
              </a:rPr>
              <a:t>Types d’express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ahoma"/>
              </a:rPr>
              <a:t>expressions de chem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ahoma"/>
              </a:rPr>
              <a:t>constructeurs d’élé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ahoma"/>
              </a:rPr>
              <a:t>expressions conditionnel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ahoma"/>
              </a:rPr>
              <a:t>expressions FLW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Expressions de chem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ahoma"/>
              </a:rPr>
              <a:t>Basée sur syntaxe X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2000" spc="-1" strike="noStrike">
                <a:solidFill>
                  <a:srgbClr val="000000"/>
                </a:solidFill>
                <a:latin typeface="Tahoma"/>
              </a:rPr>
              <a:t>Titres de chapitres dans un document livres.xml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document("livres.xml")//chapitre/tit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2000" spc="-1" strike="noStrike">
                <a:solidFill>
                  <a:srgbClr val="000000"/>
                </a:solidFill>
                <a:latin typeface="Tahoma"/>
              </a:rPr>
              <a:t>Livres publiés par Addison-Wesley après 1991:</a:t>
            </a:r>
            <a:r>
              <a:rPr b="0" lang="fr-CH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document("biblio.xml")//livre[editeur = "Addison-Wesley" AND @annee &gt; "1991"]</a:t>
            </a:r>
            <a:r>
              <a:rPr b="0" lang="fr-CH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Contructeurs d’élé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ahoma"/>
              </a:rPr>
              <a:t>{} permet de placer une expression dans construc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&lt;livre&gt;</a:t>
            </a:r>
            <a:br>
              <a:rPr sz="1800"/>
            </a:b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 { $b/@annee }</a:t>
            </a:r>
            <a:br>
              <a:rPr sz="1800"/>
            </a:b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 { $b/titre 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&lt;/livre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ahoma"/>
              </a:rPr>
              <a:t>Résult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&lt;livre annee="2004"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&lt;titre&gt;XQuery&lt;/title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&lt;/livre&gt;</a:t>
            </a:r>
            <a:r>
              <a:rPr b="0" lang="fr-CH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Expressions conditionnel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ahoma"/>
              </a:rPr>
              <a:t>IF/THEN/E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&lt;utilisateur&gt;</a:t>
            </a:r>
            <a:br>
              <a:rPr sz="1800"/>
            </a:b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  { $u/numero }</a:t>
            </a:r>
            <a:br>
              <a:rPr sz="1800"/>
            </a:b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  { $u/nom }</a:t>
            </a:r>
            <a:br>
              <a:rPr sz="1800"/>
            </a:b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  {</a:t>
            </a: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IF (empty($b))</a:t>
            </a:r>
            <a:br>
              <a:rPr sz="1800"/>
            </a:b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  </a:t>
            </a: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THEN &lt;status&gt;inactif&lt;/status&gt;</a:t>
            </a:r>
            <a:br>
              <a:rPr sz="1800"/>
            </a:b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  </a:t>
            </a: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ELSE &lt;status&gt;actif&lt;/status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&lt;/utilsateur&gt;</a:t>
            </a:r>
            <a:r>
              <a:rPr b="0" lang="fr-CH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Expressions FLW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ahoma"/>
              </a:rPr>
              <a:t>Forme généra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FOR $&lt;var&gt; in &lt;forest&gt;, $&lt;var&gt; ... 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// itér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LET $&lt;var&gt; := &lt;subtree&gt; 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// assign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WHERE &lt;condition&gt; 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// élagag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RETURN &lt;result&gt; 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// construc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ahoma"/>
              </a:rPr>
              <a:t>Similitude requête SQ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Exemple : FLW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&lt;resultats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FOR $t IN distinct(document("prix.xml")/prix/livre/titre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LET $p:=avg(document("prix.xml")/prix/livre[titre=$t]/prix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WHERE (document("biblio/xml")/livre[titre=$t]/editeur) = "Addison-Wesley"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RETURN</a:t>
            </a:r>
            <a:br>
              <a:rPr sz="1600"/>
            </a:b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&lt;resultat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{ $t }</a:t>
            </a:r>
            <a:br>
              <a:rPr sz="1600"/>
            </a:b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     </a:t>
            </a: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&lt;moy&gt;{ $p }&lt;/moy&gt;</a:t>
            </a:r>
            <a:br>
              <a:rPr sz="1600"/>
            </a:b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    </a:t>
            </a: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&lt;/resultat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&lt;/resultats&gt;</a:t>
            </a:r>
            <a:r>
              <a:rPr b="0" lang="fr-CH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7T06:37:05Z</dcterms:created>
  <dc:creator>James Bond</dc:creator>
  <dc:description/>
  <dc:language>en-US</dc:language>
  <cp:lastModifiedBy>" "</cp:lastModifiedBy>
  <dcterms:modified xsi:type="dcterms:W3CDTF">2004-04-28T04:39:38Z</dcterms:modified>
  <cp:revision>58</cp:revision>
  <dc:subject/>
  <dc:title>XML Quer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