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372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euilles de style X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582320" y="640080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79C9-EBBB-45AE-9B5F-5E938BDAB82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Feuilles de style XS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signer des nœu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liquer des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et confl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nement géné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fichier XSL est constitué de plusieur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liquées sur l’arbre du document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rbre source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Arbre sor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 : Programmation décla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rit ce que l’on souha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com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rdre des déclarations n’a pas d’impor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lus facile à analyser (pas effet de bord dûs a la manipulation de vari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el récursif des règles pour traiter l’ar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s de base d’un document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 = élément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s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ppel XML (au cas ou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29718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38862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4114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5334120"/>
            <a:ext cx="350532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un_motif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[a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5334120"/>
            <a:ext cx="350496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nom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om trouv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18288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200400"/>
            <a:ext cx="3352680" cy="762120"/>
          </a:xfrm>
          <a:prstGeom prst="rect">
            <a:avLst/>
          </a:prstGeom>
          <a:noFill/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Ex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dentification des nœuds du document concernés par la rè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aleur est un chemin X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cine / Élément / Attribut / 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signe la racine du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ègle ne rien f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Quand tu rencontres la racine, tu ne fais 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5638680"/>
            <a:ext cx="31240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tourne un fichier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esque vide (prologu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4267080"/>
            <a:ext cx="426708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/”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: 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xemples Règles v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Écrire une  règle vide concernant la personne dont l’attribut ref est 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Écrire une règle vide concernant le premier message de la personne dont ref est 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371600"/>
            <a:ext cx="7620120" cy="3352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ru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 ref="p1"&gt;Thomas&lt;/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 ref="p2"&gt;Lhoste&lt;/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foru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Remar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torisation de 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pouvez designer un node-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tous les éléments correspondants seront trait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i utilisé comme attribut du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vient le Nœud contextuel du modè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ce par la ra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(partir de la rac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1905120"/>
            <a:ext cx="42674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 | pren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Attention quand mê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peut arriver que plusieurs règles puissent s’appliquer sur un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personn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personne[@ref= ‘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1 ‘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flit à résou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nc la troisième dans ce 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5013360"/>
            <a:ext cx="556272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règle la plus spécifique s’app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048120"/>
            <a:ext cx="1600200" cy="838080"/>
          </a:xfrm>
          <a:prstGeom prst="rect">
            <a:avLst/>
          </a:prstGeom>
          <a:solidFill>
            <a:srgbClr val="ccecff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tez 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imples qu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ntenant on sait désigner les éléments sur lesquels s’applique les rè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 fait-on de ces élément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s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3581280"/>
            <a:ext cx="33526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495288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38098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5181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lusieurs combinaison d’actions pos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crire directement dans le document de so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er des éléments XSLT pour faire des trai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liquer des autres règles templates définies dans le fichier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1219320"/>
            <a:ext cx="2362320" cy="761760"/>
          </a:xfrm>
          <a:prstGeom prst="leftArrow">
            <a:avLst>
              <a:gd name="adj1" fmla="val 50000"/>
              <a:gd name="adj2" fmla="val 77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: Re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enu textuel et sous-éléments avec balises (non xs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opie du texte et des 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arqu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T est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ien forme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Ces parties sont bien form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de règle (pour produire du htm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nne HTML bien form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202360"/>
            <a:ext cx="2590920" cy="7077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?xml version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1.0”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titre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257800"/>
            <a:ext cx="3886200" cy="457200"/>
          </a:xfrm>
          <a:prstGeom prst="rightArrow">
            <a:avLst>
              <a:gd name="adj1" fmla="val 31250"/>
              <a:gd name="adj2" fmla="val 121046"/>
            </a:avLst>
          </a:prstGeom>
          <a:solidFill>
            <a:srgbClr val="ccec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064120"/>
            <a:ext cx="2819520" cy="1078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titre”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h1&gt;Titr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5257800"/>
            <a:ext cx="1676520" cy="3373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h1&gt;Titr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 : Définir des cons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ssayer quand même de vous en affranchir au maxim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sl: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de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ans toutes expression Xpa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om précédé de 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5334120"/>
            <a:ext cx="563868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r_no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Thomas&lt;/xsl:vari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sonne[text()=$var_nom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2819520"/>
            <a:ext cx="57913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&gt; definition &lt;/xsl:vari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elect=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value-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traire des informations de l’arbre-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: élément xsl:value-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sormais, c’est du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3048120"/>
            <a:ext cx="5790960" cy="3808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XPat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/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724280"/>
            <a:ext cx="746748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.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les PCDATA du sous-ar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text()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le PCDATA du noe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personne/@ref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attribut ref de l’élément perso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name()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nom de l’élé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$var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contenu de la variable v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 (autres règ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 appeler les autres règles modè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 élément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ly-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de lancer l’application des règles concernant les fils dir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œud context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l’application récursive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cours de l’arbre (attention, aux arrê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895480"/>
            <a:ext cx="403848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xsl:apply-templat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ison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récurs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ur chaque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 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371600"/>
            <a:ext cx="4800600" cy="2819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c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les personnes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sur personn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les messages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sur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chaque personne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person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Chaque message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mess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rsonne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2819520"/>
            <a:ext cx="4952880" cy="3352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 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 ref="p1"&gt;Thomas&lt;/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 ref="p2"&gt;Lhoste&lt;/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ersonn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8240" y="761760"/>
            <a:ext cx="5791320" cy="4724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stylesheet  version="1.0" xmlns:xsl="http://www.w3.org/1999/XSL/Transform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/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personne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rsonnes &lt;br/&gt;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message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br/&gt;Messages &lt;br/&gt;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personne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value-of select="."/&gt;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message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value-of select="."/&gt;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152388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838080"/>
            <a:ext cx="2590920" cy="36576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a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s ss-élé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personnes&gt;, 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« personn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chaque &lt;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« messag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Chaque &lt;message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erson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 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 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4648320"/>
            <a:ext cx="236232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(f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voir quand déclencher l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 exemple faire un tableau de personnes 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e début du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a création de nouvelle lign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fermer le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(f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voir quand déclencher l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 exemple faire un tableau de personnes 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e début du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a création de nouvelle lign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fermer le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4038480"/>
            <a:ext cx="5790960" cy="2133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xsl:template match="personn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ersonnes 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table&gt;&lt;xsl:apply-templates/&gt;&lt;/tab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xsl:template match="personn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tr&gt;&lt;td&gt;&lt;xsl:value-of select="."/&gt;&lt;/td&gt;&lt;/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sa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crire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r c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but rac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el récursifs pour parcourir le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itement simple dans l’ordre d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core un peu plus d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ieurs ch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Élé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 text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ppel de l’application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lique la plus spécif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 présentation géné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pour l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cine /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lique les règles concernant sous-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pour les contenus text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us les nœuds 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ffiche le cont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4120" y="1905120"/>
            <a:ext cx="3276360" cy="914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/|*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4267080"/>
            <a:ext cx="3429000" cy="914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xt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lue-of select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blème ? Non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ux feuilles de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 filtré l’élément ra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3124080"/>
            <a:ext cx="2667240" cy="9144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stylesheet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3124080"/>
            <a:ext cx="3124440" cy="1067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stylesheet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template match="/"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1905120"/>
            <a:ext cx="1447560" cy="60948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um.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2"/>
            <a:endCxn id="216" idx="0"/>
          </p:cNvCxnSpPr>
          <p:nvPr/>
        </p:nvCxnSpPr>
        <p:spPr>
          <a:xfrm flipH="1">
            <a:off x="2400120" y="2514240"/>
            <a:ext cx="205776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8" idx="2"/>
            <a:endCxn id="217" idx="0"/>
          </p:cNvCxnSpPr>
          <p:nvPr/>
        </p:nvCxnSpPr>
        <p:spPr>
          <a:xfrm>
            <a:off x="4457880" y="2514240"/>
            <a:ext cx="228672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6" idx="2"/>
            <a:endCxn id="222" idx="0"/>
          </p:cNvCxnSpPr>
          <p:nvPr/>
        </p:nvCxnSpPr>
        <p:spPr>
          <a:xfrm>
            <a:off x="2400120" y="4038120"/>
            <a:ext cx="10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1066680" y="4800600"/>
            <a:ext cx="26672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LhosteBonjour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800600"/>
            <a:ext cx="26672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2"/>
            <a:endCxn id="223" idx="0"/>
          </p:cNvCxnSpPr>
          <p:nvPr/>
        </p:nvCxnSpPr>
        <p:spPr>
          <a:xfrm>
            <a:off x="6743520" y="4190760"/>
            <a:ext cx="10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2971800"/>
            <a:ext cx="2362320" cy="762120"/>
          </a:xfrm>
          <a:prstGeom prst="leftArrow">
            <a:avLst>
              <a:gd name="adj1" fmla="val 50000"/>
              <a:gd name="adj2" fmla="val 774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oujours plus d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pour la production de fichier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afficher les fils de discuss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afficher la liste des personn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un menu et des liens vers leur descri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des liens vers les messages dont ils sont expédi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créer un lien des messages vers les expédite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limiter la profondeur de parco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modifier l’ordre des éléments dans l’arbre de sort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6720" y="90360"/>
            <a:ext cx="27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avanc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nt Ça marche (parcours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pondre à la que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s récursifs contrô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ou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ditionn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 direct à une rè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amè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2286000"/>
            <a:ext cx="5791320" cy="8380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ent choisir les bonnes actions/rè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 bon mo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appels récurs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rdre des appels récurs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rdre des élé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 la racine vers les feui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tiv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e d’appliquer les règles dans un certain ord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fficher les personnes avant les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de postal avant la vi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e de conditionner l’application de ces rè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ssages d’une personne don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ous pouvez contrôler apply-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 valeur X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appels récurs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 select=XPA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Sans attribut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select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, l'instruction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apply-templates 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traite les éléments dans l'ordre où ils apparaissent dans le doc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L'attribut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select 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permet d'indiquer au moteur XSL de traiter uniquement les éléments qui vont correspondre au moti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de filtrer les éléments tra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imbrication permet de contrôler l’or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828800"/>
            <a:ext cx="548640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xsl:apply-templates select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 for-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chaque élément correspondant au motif, effectuer les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ar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nœud contextuel est modif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ut s’effectuer avec des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2666880"/>
            <a:ext cx="5181840" cy="990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for-each select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[action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tes les per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4952880"/>
            <a:ext cx="34290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tes les per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1905120"/>
            <a:ext cx="7010280" cy="251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le border='2'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for-each select="personnes/personn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r&gt;&lt;td&gt;&lt;xsl:value-of select="."/&gt;&lt;/td&gt;&lt;/t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for-eac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4952880"/>
            <a:ext cx="34290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483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paration des données de la pré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érê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change de feuille de style entre utilis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utilisation possible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s multiples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ermet l’utilisation de styles utilis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dépendant langages/logici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447920" y="1295280"/>
            <a:ext cx="6095880" cy="1143000"/>
            <a:chOff x="1447920" y="1295280"/>
            <a:chExt cx="6095880" cy="1143000"/>
          </a:xfrm>
        </p:grpSpPr>
        <p:sp>
          <p:nvSpPr>
            <p:cNvPr id="61" name=""/>
            <p:cNvSpPr/>
            <p:nvPr/>
          </p:nvSpPr>
          <p:spPr>
            <a:xfrm>
              <a:off x="1447920" y="1295280"/>
              <a:ext cx="9324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T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on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29480" y="1295280"/>
              <a:ext cx="9324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nné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11400" y="1295280"/>
              <a:ext cx="932400" cy="11430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S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Trai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51600" y="1698480"/>
              <a:ext cx="1505880" cy="335880"/>
            </a:xfrm>
            <a:prstGeom prst="rightArrow">
              <a:avLst>
                <a:gd name="adj1" fmla="val 50000"/>
                <a:gd name="adj2" fmla="val 1120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3520" y="1698480"/>
              <a:ext cx="1505880" cy="335880"/>
            </a:xfrm>
            <a:prstGeom prst="rightArrow">
              <a:avLst>
                <a:gd name="adj1" fmla="val 50000"/>
                <a:gd name="adj2" fmla="val 1120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 un ou plusieurs sous-éléments xsl:sort pour tri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xsl: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select désigne sur quel nœud effectuer le 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order spécifie l’ordre (ascending/descend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marq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i plusieurs xsl: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ri par rapport au premier puis tri par rapport au second pour les doubl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i il reste des doublons, utilise ordre d’appar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95280" y="3048120"/>
            <a:ext cx="5486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sort select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der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ord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er les messages par expédi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5029200"/>
            <a:ext cx="5257800" cy="99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72200" y="5105520"/>
            <a:ext cx="2438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er les messages par expédi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1905120"/>
            <a:ext cx="7010280" cy="251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s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sort select="@expediteur" order="descending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5029200"/>
            <a:ext cx="5257800" cy="99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629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5105520"/>
            <a:ext cx="2438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conditionnelles (xsl:i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xsl: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test désigne une expression retournant boolé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ne requête Xpath est va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traitements sont effectués seulement si l’expression retourne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ame()=‘nom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ition()=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1828800"/>
            <a:ext cx="5562720" cy="9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[action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i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conditionnelles (xsl:cho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ibilité d’utiliser &lt;xsl:choo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s qu’une expression test est évaluée comme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actions correspondantes sont effectu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ontrôle quitte l’élément &lt;xsl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47920" y="2666880"/>
            <a:ext cx="7238880" cy="1676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hen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[action1]&lt;/xsl:wh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hen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[action2]&lt;/xsl:wh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otherwise&gt;[action3]&lt;/xsl:otherwi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ls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ppel explicite à un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eut avoir un nom et peut être appelée explici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mmer une règle: attribut name de &lt;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er une règle: élément &lt;xsl:call-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t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ssibilité de définir des fonctions spécif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05320"/>
            <a:ext cx="5486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template nam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4495680"/>
            <a:ext cx="5486400" cy="38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call-template nam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finir des règles diffé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les mêmes nœuds de l’arbr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i seront appelées à des endroits diffé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pécifier un mode: attribut mode de &lt;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er une règle dans un mode, attribut mode de &lt;apply-templat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1981080"/>
            <a:ext cx="23623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able des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175248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411480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template match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mod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_mo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506736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apply-templates select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mod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_mo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générer l’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e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générer l’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e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1905120"/>
            <a:ext cx="7010280" cy="144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" mode="index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Message&lt;/b&gt; numéro: &lt;xsl:value-of select="@ref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4191120"/>
            <a:ext cx="8381880" cy="19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" mode="text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Message &lt;/b&gt;: &lt;xsl:value-of select="@ref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Ref Expediteur&lt;/b&gt;: &lt;xsl:value-of select="@expediteur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Texte&lt;/b&gt;: &lt;xsl:value-of select="."/&gt;&lt;br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’ensemble du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SL: « XML Style Languag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iter des documents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produire autres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ux types XS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ermet de faire des transform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HT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ise en page (namespace particul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é avec des driv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our produire autres types de document (pdf, etc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’ensemble du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2286000"/>
            <a:ext cx="7086600" cy="205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dex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//message" mode="index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xte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//message" mode="texte"/&gt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à un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est possible de passer des paramètres à une rè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larer des paramètres : Elément &lt;xsl:par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mettre des paramètres : Elément &lt;xsl:with-par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er &lt;xsl:param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e sous-élément de la règle &lt;xsl:template …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er &lt;xsl:with-param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e sous-élément de l’appel aux règles &lt;xsl:apply-templates…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2895480"/>
            <a:ext cx="6629400" cy="38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param name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19320" y="373392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ith-param name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select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valeur_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s les messages d’un utilis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el de la règle pour afficher tous les messages de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s les messages d’un utilis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el de la règle pour afficher tous les messages de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1905120"/>
            <a:ext cx="7010280" cy="144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s" mode="messages_utilisateu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param name="ref_user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message[@expediteur=$ref_user]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4114800"/>
            <a:ext cx="7010280" cy="1752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forum"&gt;Message utilisateur 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messages" mode="messages_utilisateu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with-param name="ref_user" select="'p1'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clusion (parc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sav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écuter les règles que vous avez définies dans un certain or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u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rôle des appels récurs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ditionner les appels de vo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un mo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un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des para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ffectuer des actions conditi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ho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pouvez effectuer des traitements compl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3886200"/>
            <a:ext cx="2361960" cy="762120"/>
          </a:xfrm>
          <a:prstGeom prst="leftArrow">
            <a:avLst>
              <a:gd name="adj1" fmla="val 50000"/>
              <a:gd name="adj2" fmla="val 7748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mat de so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pies d’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er XSL pour faire plusieurs doc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clusion et fragmentation de fichier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rmat de sor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écifier le format de sortie du document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: Elément &lt;xsl:ouptu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method désigne le type de sor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xml » (avec un prolog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html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text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enco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indent =« yes/no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permet de faire indentation automat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2819520"/>
            <a:ext cx="6629400" cy="3808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output method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ype_de_sort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encoding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de"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pie éléments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1752480"/>
            <a:ext cx="4648320" cy="3200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AAA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BBB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 = "@*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@*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163520"/>
            <a:ext cx="3505320" cy="2930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AA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ruc=“foo”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 = "111" ppp = "222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CCC&gt;c1 &lt;/CCC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BB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 = "555" ppp = "666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DDD&gt;d1 &lt;/DD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BB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AA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4356000"/>
            <a:ext cx="3733920" cy="1819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AA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="111" ppp="222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="555" ppp="666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AAA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ragmenter &amp; Réutiliser des feuilles d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met d’inclure le contenu d’une autre feuille de style dans la feuille de style co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124080"/>
            <a:ext cx="6629400" cy="38124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nclude href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ocalis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4572000"/>
            <a:ext cx="70102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stylesheet …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nclude href="fds2.xsl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bjectif XSL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aire des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te : XHTML est du XML (avec balises prédéfin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HT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aser Sur le modè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elques Utilisations possib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formation de documents: XML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élection/Filt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ransformer en document valide pour une autre D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formation de documents: XML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ise en page sans toucher aux données sources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3200400"/>
            <a:ext cx="5419440" cy="3808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teur XSL, Quand tu rencontres tel élément, fais ceci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 documen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 : accéder au contenu de documents ext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ien form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 fonction document dans Chemin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43000" y="3124080"/>
            <a:ext cx="716292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umen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no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/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suite_du_che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43000" y="4495680"/>
            <a:ext cx="7315200" cy="1067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value-of select="document('celsius.xml')/celsius/result[@value=$value]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"multi-res" select="document(http://…/ressources.xml)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yntaxe XSL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SLT est un fichier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équence : Pr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 un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cine : document stylesheet (balise ouvrante ET ferm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amespace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ference : « http://www.w3.org/1999/XSL/Transform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4724280"/>
            <a:ext cx="7620120" cy="1143000"/>
          </a:xfrm>
          <a:prstGeom prst="rect">
            <a:avLst/>
          </a:prstGeom>
          <a:solidFill>
            <a:srgbClr val="99ffcc"/>
          </a:solidFill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?xml version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”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stylesheet  version="1.0" xmlns:xsl="http://www.w3.org/1999/XSL/Transfor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ontenu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stylesheet&gt;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esoi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chier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chier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teur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2133720"/>
            <a:ext cx="2361960" cy="761760"/>
          </a:xfrm>
          <a:prstGeom prst="leftArrow">
            <a:avLst>
              <a:gd name="adj1" fmla="val 50000"/>
              <a:gd name="adj2" fmla="val 7751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lid</cp:lastModifiedBy>
  <dcterms:modified xsi:type="dcterms:W3CDTF">2007-07-12T14:59:50Z</dcterms:modified>
  <cp:revision>239</cp:revision>
  <dc:subject/>
  <dc:title>PowerPoint Presentation</dc:title>
</cp:coreProperties>
</file>