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7598-39F2-434E-B448-4D76A540E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FD45-7707-487C-88AF-202D9A3F7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8BA7-C67A-41BC-A99A-AC7900C8E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4D22-58F4-4B68-BB6C-2DBAFDCBB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71A78-F4AA-4211-B88F-90B0793CE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9D9CE-A266-4EB7-8E5E-C6754A76C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B3A02-D05F-461B-B9E2-F917EE03E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3EE1C-9CF1-4721-B5E2-5E4D112DF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E5421-05B2-4CDF-B85F-F04BEE087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68FB4-F07C-4E83-9735-60EABD67A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3229D-7586-4679-AD61-BE991355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80D4-C51F-4951-8837-9EDD7C19B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7603B-2DEE-4719-A3C9-9E820590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047B0-F9FB-4870-8084-3553C817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0EC0D-23A9-4D5C-9D37-9137D8C8E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4F4E2-D274-4EED-8DA3-5643E5C60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09D3A-E227-4C1E-86FF-AE3138966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DD75-C870-4580-BF60-E04D2E0DD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452E-0326-4FCD-927A-F320901FA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E5F9-2D89-42D2-A13F-359FB3FCD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7627-77A4-481A-B87F-28E0E0F93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11B2-7170-4FB7-8211-B54C7F32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E984-93CE-4E67-9310-E5B76E227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4A9F-F94C-4801-8625-8F123E35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36D25-5713-4D02-B372-68E51C146348}" type="slidenum">
              <a:rPr b="0" lang="fr-CH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A277B-054C-47FE-AF9A-3433C2F61B3B}" type="slidenum">
              <a:rPr b="0" lang="fr-CH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XML Query (XQuery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ahoma"/>
              </a:rPr>
              <a:t>28 avril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ahoma"/>
              </a:rPr>
              <a:t>Nicolas Décr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Exemple : opérateur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On retrouve les même opérateurs que dans les autres langag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&lt;result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LET $a := avg(//book/pric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FOR $b IN /book WHERE $b/price &gt; $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&lt;expensive_book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{ $b/title 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&lt;price_difference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{ $b/price - $a 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&lt;/price_difference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&lt;/expensive_book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&lt;/result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Conlusion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Langage puissant et éléga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Par rapport à XSL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approche globale, déclarativ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XSLT 2.0 = sous-ensemble XQue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Reste à faire ce qui marche en relationn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optimisation des requêt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vu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et les mises à jour (insert/delete/update) ?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Conclusion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Perte de complétude si pas de DT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Pas de schéma=&gt; pas d’uniformité des noms =&gt; information cachée (perdue?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En théorie on peut représenter le relationnel en XM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Et traduire le SQL en XQuery facilement, va-t-on le faire ?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Les bases de données objets ont échoué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Sauf comme outil de persistance pour les langages C++/Jav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et les bases XML ?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Pour en savoir plu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http://www.w3.org/TR/xquery/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http://www.datadirect.com/news/whatsnew/xquerybook/index.ssp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Exerci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Document "Guide.xml"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Guide Version="3.0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Restaurant type="auberge" categorie="**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&gt;Le Vieux Moulin&lt;/Nom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Adresse&gt;&lt;Rue&gt;du Salève&lt;/Rue&gt;&lt;Ville&gt;Drize&lt;/Ville&gt; &lt;/Adress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Gérant&gt;Dufourneau&lt;/Géran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Restauran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Restaurant type="italien" categorie="***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&gt;Mamma Mia&lt;/Nom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Adresse&gt;&lt;Rue&gt;Georges Favon&lt;/Rue&gt;&lt;Ville&gt;Genève&lt;/Ville&gt; &lt;/Adress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Gérant&gt;Maldini&lt;/Géran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Restauran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Restaurant type="gastronomique" categorie="***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&gt;L'Epicurien&lt;/Nom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Adresse&gt;&lt;Rue&gt;Bourg-de-Four&lt;/Rue&gt;&lt;Ville&gt;Genève&lt;/Ville&gt; &lt;/Adress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Restauran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Bar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&gt;Le Tuyau&lt;/Nom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Adresse&gt;&lt;Rue&gt;Passage Monetier&lt;/Rue&gt;&lt;Ville&gt;Genève&lt;/Ville&gt; &lt;/Adress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Bar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Guid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Exercice (suit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Tahoma"/>
              </a:rPr>
              <a:t>Document "Répertoire.xml"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Répertoire Version="1.0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Hôtel confort="***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&gt;Suisse&lt;/Nom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Adresse&gt;&lt;Rue&gt;Cornavin&lt;/Rue&gt;&lt;Ville NP="1201"&gt;Genève&lt;/Ville&gt;&lt;/Adress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Hôtel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Hôtel confort="**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&gt;Les Tourelles&lt;/Nom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Adresse&gt;&lt;Rue&gt;Georges Favon &lt;/Rue&gt;&lt;Ville NP="1204"&gt;Genève&lt;/Ville&gt;&lt;/Adress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Hôtel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Hôtel confort="****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&gt;Edelweiss&lt;/Nom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Adresse&gt;&lt;Rue&gt;Rigistrasse&lt;/Rue&gt;&lt;Ville NP="6002"&gt;Lucerne&lt;/Ville&gt;&lt;/Adress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Hôtel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Hôtel confort="***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&gt;Hôtel de la Truite&lt;/Nom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Adresse&gt;&lt;Rue&gt;Poste&lt;/Rue&gt;&lt;Ville NP="1342"&gt;Le Pont&lt;/Ville&gt;&lt;/Adress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Hôtel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Répertoir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Les question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Q1: le nom et l'adresse des restaurants de Genè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Q2 (jointure): le nom des restaurants se trouvant dans la même rue que l'hôtel Les Tourel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Q3 (agrégation): combien y a t il de restaurants dans le gu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Q4 (imbrication de "for"): lister les valeurs de tous les attributs des hôtels (sous éléments compris) dont le libellé de la rue ou de la ville contient "Pont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Solution pour Q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Tahoma"/>
              </a:rPr>
              <a:t>Q1: le nom et l'adresse des restaurants de Genèv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FOR $r IN document("Guide.xml")/Guide/Restaura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WHERE $r/Adresse/Ville = "Genève"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RETURN &lt;Restauran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&gt; { $r/Nom } &lt;/Nom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Adresse&gt; { $r/Adresse/Rue } &lt;/Adress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Restauran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Tahoma"/>
              </a:rPr>
              <a:t>Résultat de la requête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Restauran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&gt;Mamma Mia&lt;/Nom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Adresse&gt;Georges Favon&lt;/Adress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Restauran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Restauran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&gt;L'Epicurien&lt;/Nom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Adresse&gt;Bourg-de-Four&lt;/Adress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Restauran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Solution pour Q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Tahoma"/>
              </a:rPr>
              <a:t>Q2 (jointure) : le nom des restaurants se trouvant dans la même rue que l’hôtel les  Tourel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FOR 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$r IN document("Guide.xml")/Guide/Restaura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$h IN document("Répertoire.xml")/Répertoire/Hôte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WHERE $r//Rue = $h//Rue AND $h//Nom = "Les Tourelles"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RETURN &lt;Nom&gt; { $r/Nom } &lt;/Nom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Tahoma"/>
              </a:rPr>
              <a:t>Résultat de la requête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&gt;Mamma Mia&lt;/Nom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Solution pour Q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Q3 (agrégation): combien y a t il de restaurants dans le gui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LET $r:=document("Guide.xml")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//Restaura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RETUR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breRestaurants&gt; count($r) &lt;/NombreRestaurants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Résultat de la requêt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breRestaurants&gt;3&lt;/NombreRestaurants 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Solution pour Q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Q4 (imbrication de "FOR"): lister les valeurs de tous les attributs des hôtels (sous-éléments compris) dont le libellé de la rue ou de la ville contient "Pont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FOR $h IN document("Répertoire.xml")/Répertoire/Hôte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WHERE $h/Adresse/(Rue|Ville) CONTAINS ("Pont"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RETURN &lt;Resul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FOR $a IN $h//@* RETURN &lt;Attribut&gt; $a &lt;/Attribu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Resul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Résultat de la requêt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Resul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Attribut&gt;***&lt;/Attribu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Attribut&gt;1342&lt;/Attribu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Resul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Pla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ahoma"/>
              </a:rPr>
              <a:t>Les bases de X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ahoma"/>
              </a:rPr>
              <a:t>Exe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ahoma"/>
              </a:rPr>
              <a:t>Exerc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ahoma"/>
              </a:rPr>
              <a:t>Document XML comme B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ahoma"/>
              </a:rPr>
              <a:t>Lancer requêtes sur documents X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ahoma"/>
              </a:rPr>
              <a:t>Dérivé de XPath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Les bases de XQue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ahoma"/>
              </a:rPr>
              <a:t>Chaque requête est une exp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ahoma"/>
              </a:rPr>
              <a:t>Types d’expres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ahoma"/>
              </a:rPr>
              <a:t>expressions de chem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ahoma"/>
              </a:rPr>
              <a:t>constructeurs d’élé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ahoma"/>
              </a:rPr>
              <a:t>expressions conditionnel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ahoma"/>
              </a:rPr>
              <a:t>expressions FLW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Expressions de chem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ahoma"/>
              </a:rPr>
              <a:t>Basée sur syntaxe X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2000" spc="-1" strike="noStrike">
                <a:solidFill>
                  <a:srgbClr val="000000"/>
                </a:solidFill>
                <a:latin typeface="Tahoma"/>
              </a:rPr>
              <a:t>Titres de chapitres dans un document livres.xml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document("livres.xml")//chapitre/tit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2000" spc="-1" strike="noStrike">
                <a:solidFill>
                  <a:srgbClr val="000000"/>
                </a:solidFill>
                <a:latin typeface="Tahoma"/>
              </a:rPr>
              <a:t>Livres publiés par Addison-Wesley après 1991:</a:t>
            </a:r>
            <a:r>
              <a:rPr b="0" lang="fr-CH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document("biblio.xml")//livre[editeur = "Addison-Wesley" AND @annee &gt; "1991"]</a:t>
            </a:r>
            <a:r>
              <a:rPr b="0" lang="fr-CH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Contructeurs d’élé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{} permet de placer une expression dans construc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&lt;livre&gt;</a:t>
            </a:r>
            <a:br>
              <a:rPr sz="1800"/>
            </a:b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 { $b/@annee }</a:t>
            </a:r>
            <a:br>
              <a:rPr sz="1800"/>
            </a:b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 { $b/titre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&lt;/livr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Résult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&lt;livre annee="2004"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&lt;titre&gt;XQuery&lt;/titl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&lt;/livre&gt;</a:t>
            </a:r>
            <a:r>
              <a:rPr b="0" lang="fr-CH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Expressions conditionnel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ahoma"/>
              </a:rPr>
              <a:t>IF/THEN/E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&lt;utilisateur&gt;</a:t>
            </a:r>
            <a:br>
              <a:rPr sz="1800"/>
            </a:b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  { $u/numero }</a:t>
            </a:r>
            <a:br>
              <a:rPr sz="1800"/>
            </a:b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  { $u/nom }</a:t>
            </a:r>
            <a:br>
              <a:rPr sz="1800"/>
            </a:b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  {</a:t>
            </a: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IF (empty($b))</a:t>
            </a:r>
            <a:br>
              <a:rPr sz="1800"/>
            </a:b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  </a:t>
            </a: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THEN &lt;status&gt;inactif&lt;/status&gt;</a:t>
            </a:r>
            <a:br>
              <a:rPr sz="1800"/>
            </a:b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  </a:t>
            </a: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ELSE &lt;status&gt;actif&lt;/status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&lt;/utilsateur&gt;</a:t>
            </a:r>
            <a:r>
              <a:rPr b="0" lang="fr-CH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Expressions FLW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ahoma"/>
              </a:rPr>
              <a:t>Forme généra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FOR $&lt;var&gt; in &lt;forest&gt;, $&lt;var&gt; ... 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// itér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LET $&lt;var&gt; := &lt;subtree&gt; 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// assign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WHERE &lt;condition&gt; 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// élagag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RETURN &lt;result&gt; 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// construc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ahoma"/>
              </a:rPr>
              <a:t>Similitude requête SQ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Exemple : FLW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&lt;resultats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FOR $t IN distinct(document("prix.xml")/prix/livre/titr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LET $p:=avg(document("prix.xml")/prix/livre[titre=$t]/pri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WHERE (document("biblio/xml")/livre[titre=$t]/editeur) = "Addison-Wesley"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RETURN</a:t>
            </a:r>
            <a:br>
              <a:rPr sz="1600"/>
            </a:b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&lt;resultat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{ $t }</a:t>
            </a:r>
            <a:br>
              <a:rPr sz="1600"/>
            </a:b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     </a:t>
            </a: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&lt;moy&gt;{ $p }&lt;/moy&gt;</a:t>
            </a:r>
            <a:br>
              <a:rPr sz="1600"/>
            </a:b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    </a:t>
            </a: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&lt;/resultat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&lt;/resultats&gt;</a:t>
            </a:r>
            <a:r>
              <a:rPr b="0" lang="fr-CH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7T06:37:05Z</dcterms:created>
  <dc:creator>James Bond</dc:creator>
  <dc:description/>
  <dc:language>en-US</dc:language>
  <cp:lastModifiedBy>" "</cp:lastModifiedBy>
  <dcterms:modified xsi:type="dcterms:W3CDTF">2004-04-28T04:39:38Z</dcterms:modified>
  <cp:revision>58</cp:revision>
  <dc:subject/>
  <dc:title>XML Que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