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1354-D682-4FFD-9B06-A63468D63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81AB-9261-4AD4-AFDE-77E14B20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0E6-38B5-41A6-B728-9474C2F91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717-B6B9-469F-9A4E-054236DB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C6A9-60F8-44B0-AF18-C86A7502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1F01-D900-4671-9DE2-079E99E6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3715-7565-47CF-8E53-3A45587F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8D5A-5F76-463E-B38E-E7C88CA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6AE4-1E43-4563-A625-6E0667DFE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F165-89CD-48D9-A067-A7C93664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358C-3258-4C11-8F6E-682E3D88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7BCE-6425-4079-9FFF-6F33F61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5FD7-1D21-4057-9737-FC8F5470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26D9-64E6-4E41-A863-CAFB92D0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61C1-85B2-43F0-9867-7D48DBC06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92EF-9489-400C-88F6-FC89064C0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28D3-FC02-4E98-9C9B-6867DE8BE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B0E5-A640-4F3D-9B29-2E838855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DC8-9778-41B5-9879-A3A6C2C1C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E556-A670-47E2-97BC-078A3DED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D348-E312-4018-989C-BB1A163E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686-EFBF-4330-A570-EC93A54A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74B-2528-4D28-A82A-A19227A4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7EB5-E5BC-4F99-9EB9-D7F0E4D3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7F0A-F6A4-4154-8C2F-7958DA00617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F2D7-AAB6-4CC2-A008-896AED90D7D2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8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5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7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40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5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A.F.P.A. Pays de Brive</cp:lastModifiedBy>
  <dcterms:modified xsi:type="dcterms:W3CDTF">2006-08-07T08:02:53Z</dcterms:modified>
  <cp:revision>145</cp:revision>
  <dc:subject/>
  <dc:title>Présentation générale  de la Formation RPSI</dc:title>
</cp:coreProperties>
</file>