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424E8-3913-4D0B-BD53-9E8ED5D1B0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CEFF0-B1A5-458B-B9CC-07AFC45E64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C67A6-387E-4795-8590-D0EEE0292A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81B49-7D22-43CA-B61C-3E52302C71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F26F0-33A3-4E9B-BC52-110B7193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4FA890-E2A9-44D8-916F-B26BEB8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BCD1A-E8FB-4DA0-99B6-FF0A9D48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AEE47-146B-44BC-A8B5-09F5F8BC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E96B1-6365-4446-B660-EA28B8DA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496E9-7158-4FA9-B93F-40F6DF36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77845-E685-4339-987C-E37562F8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FA63D-857F-4D16-95BD-406477F44A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C3A6E-0D1B-41D7-8832-E346C448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5A5A3-EA91-49FE-A2F6-4B9AA6A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B28CFE-654E-41B2-A037-4E09F08B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D0C66F-5A27-4659-9BEC-E4D88C5F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58C4B-C1E8-40F8-B18F-410BF0F1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9E4E-E038-410E-B359-97B337058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1E3DC-BA46-4F3A-9666-41A3C44C72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82E2E-412D-4F15-8812-54A208E280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79EE-D020-496C-B8D6-7287FCB65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6571-B9AF-4B27-8BD1-E180A3EE3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BDA93-167D-40AC-B44C-2075BFD1EF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DA185-C6E4-41EB-808D-B22058A17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09300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E1F8-7CDA-4371-B3C6-A504C6253C0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6AE6-0F23-45D3-833E-9B4D6878E8A8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rogrammation Orientée Obje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2057400"/>
            <a:ext cx="6782040" cy="99072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 de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769644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lasse image ne peut être instanciée 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MustInherit Public Clas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stanciation d’une image bitmap ou metafi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Public Class Bitmap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 Unicode MS"/>
              </a:rPr>
              <a:t>Inherits Image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Bitma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Meta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Imag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génér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onsiste à factoriser les éléments communs d’un ensemble de classe dans une classe plus générale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On parle alors de super-classe ou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3434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propriété Heigh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a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artiennent à la classe 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rincipe de spéc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22856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 de définir les particularités d’un ensemble d’objets non prises en compte par les classes déjà identifiées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3962520"/>
            <a:ext cx="73152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SetPixel est une méthode spécifique de la classe BitMap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PlayRecord est une méthode  spécifique de la classe Meta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’où la nécessité d’avoir des sous-classes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 spécialis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57150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termination des sur-classes et sous-class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066680" y="2514600"/>
            <a:ext cx="7086600" cy="2913480"/>
            <a:chOff x="1066680" y="2514600"/>
            <a:chExt cx="7086600" cy="2913480"/>
          </a:xfrm>
        </p:grpSpPr>
        <p:sp>
          <p:nvSpPr>
            <p:cNvPr id="167" name=""/>
            <p:cNvSpPr/>
            <p:nvPr/>
          </p:nvSpPr>
          <p:spPr>
            <a:xfrm>
              <a:off x="1371240" y="2514600"/>
              <a:ext cx="6782040" cy="1981080"/>
            </a:xfrm>
            <a:prstGeom prst="rect">
              <a:avLst/>
            </a:prstGeom>
            <a:solidFill>
              <a:srgbClr val="ccffff">
                <a:alpha val="50000"/>
              </a:srgbClr>
            </a:solidFill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7616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Terrest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10080" y="3733920"/>
              <a:ext cx="22860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 Aéri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6668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oitu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160" y="5029200"/>
              <a:ext cx="121932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Cam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76560" y="5029200"/>
              <a:ext cx="137160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Av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29040" y="5029200"/>
              <a:ext cx="152424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Hélicoptèr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38480" y="2590920"/>
              <a:ext cx="1752480" cy="3988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3300"/>
                  </a:solidFill>
                  <a:latin typeface="Times New Roman"/>
                </a:rPr>
                <a:t>Véhicu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96216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5104800" y="3047760"/>
              <a:ext cx="609480" cy="60948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20570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89512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714640" y="4267080"/>
              <a:ext cx="60984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6705000" y="4267080"/>
              <a:ext cx="609480" cy="609840"/>
            </a:xfrm>
            <a:prstGeom prst="line">
              <a:avLst/>
            </a:prstGeom>
            <a:ln cap="sq" w="50760">
              <a:solidFill>
                <a:srgbClr val="ff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47560" y="2895480"/>
              <a:ext cx="2438280" cy="4597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Times New Roman"/>
                </a:rPr>
                <a:t>Classes abstrait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762120" y="2438280"/>
            <a:ext cx="0" cy="3810240"/>
          </a:xfrm>
          <a:prstGeom prst="line">
            <a:avLst/>
          </a:prstGeom>
          <a:ln cap="sq"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6800" y="2514600"/>
            <a:ext cx="0" cy="38098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9051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Génér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1919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Spécialis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de plus bas niveau (terminales) sont des classes concrè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es classes non terminales sont souvent abstrait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Eviter une trop grande profondeur de décomposi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décomposition doit être s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Héritage : Exprime une relation ES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5486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sous classe hérite des propriétés et méthodes de la sur-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2671920" cy="29718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5257800" y="2666880"/>
            <a:ext cx="3048120" cy="24336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124080" y="2819520"/>
            <a:ext cx="1752840" cy="114300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4419720"/>
            <a:ext cx="1981080" cy="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ssociation : Exprime une dépendan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pend d’une autre classe pour accomplir une fonction spécifiqu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multiplicité détermine le nombre d’objets pouvant participer à une relation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010640" cy="153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 flipH="1" flipV="1">
            <a:off x="4952520" y="3200040"/>
            <a:ext cx="1752840" cy="60948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1680" y="36576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Multiplicit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2743200" y="2819160"/>
            <a:ext cx="990720" cy="99036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2120" y="3733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ssoci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grégation : Une relation Tout-Parti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4571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lasse complexe comprenant d’autres class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La ligne commande est une partie de la command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895480" y="2743200"/>
            <a:ext cx="2286000" cy="990720"/>
          </a:xfrm>
          <a:prstGeom prst="line">
            <a:avLst/>
          </a:prstGeom>
          <a:ln cap="sq"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Agrégation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95280" y="2057400"/>
            <a:ext cx="7391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Polymorphisme via héritage d’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562720" y="2209680"/>
            <a:ext cx="3200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ême opération se comporte différemment quand elle s’applique à des objets basés sur des classes différen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572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Autres formes de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substitution de méthodes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méthode dans la classe dérivée se substitue à celle définie dans la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ar liaison tardive Late Binding :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n’indique pas au compilateur la classe spécifique utilisée. On déclare un objet génér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n utilise lors de l’instanciation une classe spécifique.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 éviter pour des problèmes de performances et une mise en oeuvre délicate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Notion d’objet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 objet est une entité cohérente rassemblant des données et du code travaillant sur ces donné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45338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3059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jouter une classe au proj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ttribuer un nom à la classe (nom du fichi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le ou les constructeu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réer un destructeur si nécessa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ff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clarer les évèn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réation d’un constructeur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" y="2057400"/>
            <a:ext cx="685800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Constructeur simp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New(ByVal i As Integer, ByVal s As String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S 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intValeur = 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strValeur =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méthod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2133720"/>
            <a:ext cx="7696440" cy="41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ub MaMethode(ByVal i As Integ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i As Integer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MaFonction(ByVal s As String) As Bool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2362320"/>
            <a:ext cx="7696080" cy="36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Restriction sur usage des propriété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80880" y="1981080"/>
            <a:ext cx="7696440" cy="4572000"/>
            <a:chOff x="380880" y="1981080"/>
            <a:chExt cx="7696440" cy="4572000"/>
          </a:xfrm>
        </p:grpSpPr>
        <p:sp>
          <p:nvSpPr>
            <p:cNvPr id="224" name=""/>
            <p:cNvSpPr/>
            <p:nvPr/>
          </p:nvSpPr>
          <p:spPr>
            <a:xfrm>
              <a:off x="380880" y="1981080"/>
              <a:ext cx="7696440" cy="457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ReadOnly Property Ag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Return iAge.To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G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Public WriteOnly Property Lecture() As Str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et(ByVal Value As String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strValeur = Valu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Se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    </a:t>
              </a:r>
              <a:r>
                <a:rPr b="0" lang="fr-FR" sz="2000" spc="-1" strike="noStrike">
                  <a:solidFill>
                    <a:srgbClr val="0000ff"/>
                  </a:solidFill>
                  <a:latin typeface="Times New Roman"/>
                </a:rPr>
                <a:t>End Proper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2057400" y="2361600"/>
              <a:ext cx="3276720" cy="129564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410080" y="33526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Lec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2361960" y="4647960"/>
              <a:ext cx="2895480" cy="990720"/>
            </a:xfrm>
            <a:prstGeom prst="line">
              <a:avLst/>
            </a:prstGeom>
            <a:ln cap="sq"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10080" y="533376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ccff"/>
                  </a:solidFill>
                  <a:latin typeface="Times New Roman"/>
                </a:rPr>
                <a:t>Ecriture seule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es évènement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200400"/>
            <a:ext cx="8305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057400"/>
            <a:ext cx="784836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Event Evenement(ByVal messag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et(ByVal Value As Str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sNom = Value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Affecte valeur à variable loc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aiseEvent Evenement("Le nom a été renseigné"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s modificateurs d’accessibilité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2362320"/>
            <a:ext cx="289548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Mot cl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2362320"/>
            <a:ext cx="5105520" cy="52056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762120" y="2948040"/>
            <a:ext cx="8001000" cy="520560"/>
            <a:chOff x="762120" y="2948040"/>
            <a:chExt cx="8001000" cy="520560"/>
          </a:xfrm>
        </p:grpSpPr>
        <p:sp>
          <p:nvSpPr>
            <p:cNvPr id="236" name=""/>
            <p:cNvSpPr/>
            <p:nvPr/>
          </p:nvSpPr>
          <p:spPr>
            <a:xfrm>
              <a:off x="762120" y="294804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ublic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57600" y="294804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essible partou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762120" y="3505320"/>
            <a:ext cx="8001000" cy="520560"/>
            <a:chOff x="762120" y="3505320"/>
            <a:chExt cx="8001000" cy="520560"/>
          </a:xfrm>
        </p:grpSpPr>
        <p:sp>
          <p:nvSpPr>
            <p:cNvPr id="239" name=""/>
            <p:cNvSpPr/>
            <p:nvPr/>
          </p:nvSpPr>
          <p:spPr>
            <a:xfrm>
              <a:off x="762120" y="35053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ivate</a:t>
              </a: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57600" y="35053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dans la classe uniquemen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762120" y="4038480"/>
            <a:ext cx="2895480" cy="137376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Friend</a:t>
            </a:r>
            <a:br>
              <a:rPr sz="2800"/>
            </a:b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657600" y="4038480"/>
            <a:ext cx="5105520" cy="1008000"/>
          </a:xfrm>
          <a:prstGeom prst="rect">
            <a:avLst/>
          </a:prstGeom>
          <a:solidFill>
            <a:srgbClr val="ffffcc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Accès Classe - Espace de nom </a:t>
            </a:r>
            <a:br>
              <a:rPr sz="2800"/>
            </a:br>
            <a:r>
              <a:rPr b="0" lang="fr-FR" sz="3200" spc="-1" strike="noStrike">
                <a:solidFill>
                  <a:srgbClr val="0066cc"/>
                </a:solidFill>
                <a:latin typeface="Times New Roman"/>
              </a:rPr>
              <a:t>A</a:t>
            </a: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ssembl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762120" y="5105520"/>
            <a:ext cx="8001000" cy="520560"/>
            <a:chOff x="762120" y="5105520"/>
            <a:chExt cx="8001000" cy="520560"/>
          </a:xfrm>
        </p:grpSpPr>
        <p:sp>
          <p:nvSpPr>
            <p:cNvPr id="244" name=""/>
            <p:cNvSpPr/>
            <p:nvPr/>
          </p:nvSpPr>
          <p:spPr>
            <a:xfrm>
              <a:off x="762120" y="5105520"/>
              <a:ext cx="289548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Protected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57600" y="5105520"/>
              <a:ext cx="5105520" cy="520560"/>
            </a:xfrm>
            <a:prstGeom prst="rect">
              <a:avLst/>
            </a:prstGeom>
            <a:solidFill>
              <a:srgbClr val="ffffcc"/>
            </a:solidFill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66cc"/>
                  </a:solidFill>
                  <a:latin typeface="Times New Roman"/>
                </a:rPr>
                <a:t>Accès classe et classes dérivé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tilisation de destructeur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419720"/>
            <a:ext cx="7848720" cy="132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otected Overrides Sub finaliz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oCon.Close() </a:t>
            </a: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' ferme la connex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b finalize utilisée pour nettoyer des ressourc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de exécuté par le garbage collecto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peut ne pas être immédi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être utilisé pour nettoyer d’autres ressources ouvert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Garbage collec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rocessus en tâche de fond qui nettoie les références inutilisé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varObjet = Nothing permet d’indiquer que l’objet peut être supprim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objets ou autre mémoire qui sont hors d’atteinte (hors de portée) sont nettoy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destruction de l’objet est autorisée mais 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Aucune garantie quant au moment où elle aura lieu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collecte des objets inaccessibles peut être forcée par le recours directe à la classe système GC : GC.Collect(). Ce processus n’est toutefois pas recommandé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Une classe dérivée hérite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propriétés, méthodes, évènements pourront être héri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s clés précisant les conditions d’héritag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herits : dans la classe dérivée à partir d’une classe de ba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Inheritable : Impossible d’hérit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Inherit : Impossible de créer des instances de cette clas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Une class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est une description abstraite d’un objet. Elle peut être considérée en  quelque sorte comme un moule…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3706920" cy="3230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3429000"/>
            <a:ext cx="3505320" cy="5205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66cc"/>
                </a:solidFill>
                <a:latin typeface="Times New Roman"/>
              </a:rPr>
              <a:t>Nom de la 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6400" y="4267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attributs ou données memb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5410080"/>
            <a:ext cx="3505320" cy="8254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Description des méthodes</a:t>
            </a:r>
            <a:br>
              <a:rPr sz="2400"/>
            </a:br>
            <a:r>
              <a:rPr b="0" lang="fr-FR" sz="2400" spc="-1" strike="noStrike">
                <a:solidFill>
                  <a:srgbClr val="0066cc"/>
                </a:solidFill>
                <a:latin typeface="Times New Roman"/>
              </a:rPr>
              <a:t> = code associ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Substitution et surchar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ne classe dérivée peut remplacer une méthode ou une propriété hérité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able : rend la substitution 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ustOverride : substitution obligatoi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Overrides : remplacement de méth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NotOverridable : substitution impossib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Utiliser Overloads pour surcharger une méthode dans une classe héritée avec une signature différen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889280"/>
            <a:ext cx="7848720" cy="454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MustInherit Clas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Property Nom(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Return sNom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Retourne valeur variable lo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G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Proper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able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rivate sPrenom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Overrides Sub Methode(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Méthode substitu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xemples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886200"/>
            <a:ext cx="7848360" cy="28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Class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herits ClasseBas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Public Sub New(ByVal nom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MyBase.New(no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…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ot clé MyBase fait référence à la classe de base immédiate dans la hiérarch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ouvent utilisé pour créer une instance de la classe de 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Permet aussi d’accéder à une méthode de la classe de ba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Mise en œuvre du polymorphism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Trois approches possibles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liaison tardive. A la compilation, on ne spécifie pas la nature de la classe mais on travaille avec un objet indéterminé. Pose de nombreux souc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ubstitution de membres d’une classe de base dans une classe dérivé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interfa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es signatures des méthodes et propriétés sont définies dans l’interfa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mplémentation du code se fait dans la classe qui implémente les méth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iaison tardiv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209680"/>
            <a:ext cx="7848720" cy="37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Dim oMaClasse As Obj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Instancier(ByVal typeObjet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f typeObjet = "Chat" Th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 = New ClasseDerivee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oMaClasse.Mordre() </a:t>
            </a: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' Doit être implémentée dans les 2 clas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éfini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4495680"/>
            <a:ext cx="7848360" cy="203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Interface Mon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Function TraiterNom(ByVal Nom As String) As Str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I As Integer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Sub MethodeX(ByVal S As String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Times New Roman"/>
              </a:rPr>
              <a:t>End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es interfaces définissent des signatures de méthodes, d’évènements et de propriét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éfinie au sein d’un module avec les mots clés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erface – End 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urchage possible des memb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ut hériter d’une autre interface : Inher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Implémentation d’une interfac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04920" y="2971800"/>
            <a:ext cx="8839080" cy="36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Class ClasseImple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Implements MonInterfa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(ByVal I As Integer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'... code implémen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Sub MethodeX1(ByVal S As String) Implements MonInterface.Methode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Public Function TraiterNom(ByVal Nom As String) As String Implements MonInterface.TraiterN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Si une classe implémente une interface, elle doit implémenter l’ensemble des membres de l’interfa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Données membres partagées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3520" y="3200400"/>
            <a:ext cx="7772400" cy="318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Class CompeEparg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rivate dMontan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Shared TauxInteret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Public Function CalculInterets() As Dou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Return dMontant * TauxInter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ff"/>
                </a:solidFill>
                <a:latin typeface="Times New Roman"/>
              </a:rPr>
              <a:t>End Clas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Permettre à plusieurs instances de partager une même variable de clas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a persistance \ La sérialis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n objet doit vivre au-delà de la portée de l’instance de ce dernie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ermettre de stocker nos objets dans une mémoire non volatile…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lusieurs mécanismes peuvent être mis en œuv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Recours fréquent à XML aujourd’hu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Chaque objet correspond à une instance de la classe à laquelle il fait référence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706560" cy="3230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3124080"/>
            <a:ext cx="243828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Peugeo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97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572000"/>
            <a:ext cx="2438640" cy="119124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Marque = Renault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Puissance = 5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maximale = 176</a:t>
            </a:r>
            <a:br>
              <a:rPr sz="1800"/>
            </a:br>
            <a:r>
              <a:rPr b="0" lang="fr-FR" sz="1800" spc="-1" strike="noStrike">
                <a:solidFill>
                  <a:srgbClr val="0066cc"/>
                </a:solidFill>
                <a:latin typeface="Times New Roman"/>
              </a:rPr>
              <a:t>Vitesse courante = 6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828440"/>
            <a:ext cx="79246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La création d’un objet est constituée de deux phases 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a classe : allouer de la mémoire et un contexte d’exécution minimaliste. Méthode de clas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Une phase du ressort de l’objet : initialiser ses attributs d’instance. Méthode d’inst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Dans les langages tels que Java, C++, VB ou C#, ces deux phases ne sont pas différenciées. 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ppel à une méthode spéciale : le constructeu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’instanci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98116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581280" y="4191120"/>
            <a:ext cx="914400" cy="895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371600" y="251460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fr-FR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18148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6705720" y="4210200"/>
            <a:ext cx="914400" cy="89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289548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19720" y="2362320"/>
            <a:ext cx="1143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Clas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334120"/>
            <a:ext cx="3276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ccff"/>
                </a:solidFill>
                <a:latin typeface="Times New Roman"/>
              </a:rPr>
              <a:t>Les objets instanci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3581280"/>
            <a:ext cx="380880" cy="5335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1143000" cy="99072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19720" y="3048120"/>
            <a:ext cx="2438280" cy="114300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124080"/>
            <a:ext cx="2057400" cy="520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3300"/>
                </a:solidFill>
                <a:latin typeface="Times New Roman"/>
              </a:rPr>
              <a:t>Constructe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Le principe d’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de données : 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a structure d’un objet n’est pas visible de l’extérieur. 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Seule son interface est accessible par le biais de messages invocables par le client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Abstraction procédurale :</a:t>
            </a:r>
            <a:br>
              <a:rPr sz="2400"/>
            </a:b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L’invocation d’un message est une opération atomique. Aucun élément d’information sur les traitements internes mis en œuvre n’est nécessair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ette notion est déjà mise en œuvre dans l’établissement des routines (fonctions ou procédures) dans les langages classiques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429000"/>
            <a:ext cx="2209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ncapsulation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4419720"/>
            <a:ext cx="762012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Intérieur de l’objet protég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Complexité dissimulé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Maintenance simplifié (centralisa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Echanges avec l’externe sont codifié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1752840" cy="17161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4120" y="274320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352680"/>
            <a:ext cx="175248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281952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3429000"/>
            <a:ext cx="1752840" cy="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2057400"/>
            <a:ext cx="6782040" cy="1981080"/>
          </a:xfrm>
          <a:prstGeom prst="rect">
            <a:avLst/>
          </a:prstGeom>
          <a:solidFill>
            <a:srgbClr val="ccffff">
              <a:alpha val="50000"/>
            </a:srgbClr>
          </a:solidFill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Classification : Hiérarchie d’héritage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53341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Arial"/>
              </a:rPr>
              <a:t>Permet de gérer la complexité en ordonnant les classes au sein d’arborescences de classes d’abstraction croissan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Terrest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105520" y="3276720"/>
            <a:ext cx="2286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 Aéri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oitu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600" y="4572000"/>
            <a:ext cx="12193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Cam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457200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Av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4572000"/>
            <a:ext cx="152424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Hélicoptè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733920" y="2133720"/>
            <a:ext cx="175248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3300"/>
                </a:solidFill>
                <a:latin typeface="Times New Roman"/>
              </a:rPr>
              <a:t>Véhicu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65760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4800240" y="2590560"/>
            <a:ext cx="609480" cy="60948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7524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259056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5410080" y="3809880"/>
            <a:ext cx="60984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6400440" y="3809880"/>
            <a:ext cx="609480" cy="609840"/>
          </a:xfrm>
          <a:prstGeom prst="line">
            <a:avLst/>
          </a:prstGeom>
          <a:ln cap="sq" w="507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438280"/>
            <a:ext cx="2438280" cy="4597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lasses abstrai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06:45:38Z</dcterms:created>
  <dc:creator>A.F.P.A. Pays de Brive</dc:creator>
  <dc:description/>
  <dc:language>en-US</dc:language>
  <cp:lastModifiedBy>Bost</cp:lastModifiedBy>
  <dcterms:modified xsi:type="dcterms:W3CDTF">2007-02-12T08:45:49Z</dcterms:modified>
  <cp:revision>146</cp:revision>
  <dc:subject/>
  <dc:title>Présentation générale  de la Formation RPSI</dc:title>
</cp:coreProperties>
</file>