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1839-DD88-4AE0-98ED-F6CF45E05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FE50-3AE0-43FF-B848-6236D1F4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6347-40EE-4EE9-AE77-44FC2D38F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5F88-AFF4-4B1E-A2D3-2CDD22F45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9791-8E8E-49E6-96E1-B3E6396F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1B3B-ABA9-400A-B720-E6DF079B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3CBA-8F40-42C1-A49B-41953496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B9B7-D8B7-4B8F-95E4-FF659019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F13C-B48A-4ED0-A3C4-134E1E4A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044B-0DCD-463C-A8A4-87D03656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F28A-9449-4833-B5E1-5A27E393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0316-2158-4F8F-92A5-0A1DC616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A7E9-9BD5-40CB-8EC1-70165D99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BB3E-9A24-4DF1-ABD7-EFF7876A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C91D-58C4-4317-8AD5-B467F254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D021-7D58-41C4-B29E-13158B18E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D362-77B2-4C07-91A8-439747984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A0CE-A872-4F36-8100-C3DD6D74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F4DE-6508-4387-A06D-B71B85FF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0F54-DB8E-4094-A201-1FBCE001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AF80-9579-432A-8330-CB723351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C6BF-4AC7-46A7-A530-83972EE7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DDBC-2DCD-4217-A21D-948B1BCB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C836-77B0-4316-B110-0EDD802D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AE5E-4D12-4849-BBC6-25494A0CB051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B4B5-9323-4026-A94C-22B61554BD56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Programmation Orientée Obj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66680" y="2057400"/>
            <a:ext cx="6782040" cy="990720"/>
          </a:xfrm>
          <a:prstGeom prst="rect">
            <a:avLst/>
          </a:prstGeom>
          <a:solidFill>
            <a:srgbClr val="ccffff">
              <a:alpha val="50000"/>
            </a:srgbClr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xemple de hiérarchie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4038120"/>
            <a:ext cx="769644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classe image ne peut être instanciée </a:t>
            </a: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MustInherit Public Class Image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stanciation d’une image bitmap ou meta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Public Class Bitmap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Inherits Image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Bitma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0552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Meta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33920" y="2133720"/>
            <a:ext cx="175248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Im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65760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480024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2438280"/>
            <a:ext cx="2438280" cy="459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lasses abstra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Principe de généralis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nsiste à factoriser les éléments communs d’un ensemble de classe dans une classe plus général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On parle alors de super-classe ou sur-clas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4343400"/>
            <a:ext cx="7315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propriété Heigh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S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ppartiennent à la classe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Principe de spécialis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ermet de définir les particularités d’un ensemble d’objets non prises en compte par les classes déjà identifiées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3962520"/>
            <a:ext cx="73152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SetPixel est une méthode spécifique de la classe BitMa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PlayRecord est une méthode  spécifique de la classe Meta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’où la nécessité d’avoir des sous-classes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spécialis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a classific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571500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étermination des sur-classes et sous-clas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066680" y="2514600"/>
            <a:ext cx="7086600" cy="2913480"/>
            <a:chOff x="1066680" y="2514600"/>
            <a:chExt cx="7086600" cy="2913480"/>
          </a:xfrm>
        </p:grpSpPr>
        <p:sp>
          <p:nvSpPr>
            <p:cNvPr id="168" name=""/>
            <p:cNvSpPr/>
            <p:nvPr/>
          </p:nvSpPr>
          <p:spPr>
            <a:xfrm>
              <a:off x="1371240" y="2514600"/>
              <a:ext cx="6782040" cy="198108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76160" y="3733920"/>
              <a:ext cx="22860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éhiculeTerrest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10080" y="3733920"/>
              <a:ext cx="22860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éhicule Aéri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66680" y="5029200"/>
              <a:ext cx="13716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oi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19160" y="5029200"/>
              <a:ext cx="121932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Cam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76560" y="5029200"/>
              <a:ext cx="13716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Av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629040" y="5029200"/>
              <a:ext cx="152424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Hélicoptè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38480" y="2590920"/>
              <a:ext cx="175248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éhicu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3962160" y="3047760"/>
              <a:ext cx="609480" cy="60948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5104800" y="3047760"/>
              <a:ext cx="609480" cy="60948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2057040" y="4267080"/>
              <a:ext cx="60984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2895120" y="4267080"/>
              <a:ext cx="60948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5714640" y="4267080"/>
              <a:ext cx="60984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6705000" y="4267080"/>
              <a:ext cx="60948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47560" y="2895480"/>
              <a:ext cx="2438280" cy="4597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Times New Roman"/>
                </a:rPr>
                <a:t>Classes abstrait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762120" y="2438280"/>
            <a:ext cx="0" cy="3810240"/>
          </a:xfrm>
          <a:prstGeom prst="line">
            <a:avLst/>
          </a:prstGeom>
          <a:ln cap="sq" w="7632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686800" y="2514600"/>
            <a:ext cx="0" cy="380988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Générali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10280" y="19191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Spéciali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Classific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classes de plus bas niveau (terminales) sont des classes concrè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classes non terminales sont souvent abstrai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viter une trop grande profondeur de décompos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décomposition doit être s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Héritage : Exprime une relation EST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2120" y="5486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sous classe hérite des propriétés et méthodes de la sur-clas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2671920" cy="29718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257800" y="2666880"/>
            <a:ext cx="3048120" cy="24336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124080" y="2819520"/>
            <a:ext cx="1752840" cy="114300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8120" y="4419720"/>
            <a:ext cx="1981080" cy="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Association : Exprime une dépendanc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classe dépend d’une autre classe pour accomplir une fonction spécifiq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multiplicité détermine le nombre d’objets pouvant participer à une rel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7010640" cy="1531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 flipH="1" flipV="1">
            <a:off x="4952520" y="3200040"/>
            <a:ext cx="1752840" cy="60948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81680" y="3657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Multiplicit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743200" y="2819160"/>
            <a:ext cx="990720" cy="99036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3733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ssociation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Agrégation : Une relation Tout-Parti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lasse complexe comprenant d’autres cla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ligne commande est une partie de la comman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2895480" y="2743200"/>
            <a:ext cx="2286000" cy="99072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3505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grégation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73915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Polymorphisme via héritage d’interfac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562720" y="2209680"/>
            <a:ext cx="3200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ême opération se comporte différemment quand elle s’applique à des objets basés sur des classes différen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45720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Autres formes de polymorphism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ar substitution de méthodes :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dans la classe dérivée se substitue à celle définie dans la classe de b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ar liaison tardive Late Binding :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n n’indique pas au compilateur la classe spécifique utilisée. On déclare un objet générique.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n utilise lors de l’instanciation une classe spécifique.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 éviter pour des problèmes de performances et une mise en oeuvre délicat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Notion d’objet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 objet est une entité cohérente rassemblant des données et du code travaillant sur ces donné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14600" y="3352680"/>
            <a:ext cx="45338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Définition d’une class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jouter une classe au proj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ttribuer un nom à la classe (nom du fichi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réer le ou les constructeu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réer un destructeur si nécessai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éclarer les propriét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éclarer les méth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éclarer les évèn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Création d’un constructeur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3200400"/>
            <a:ext cx="83055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2057400"/>
            <a:ext cx="68580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Sub New()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Constructeur simp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intValeur =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Sub New(ByVal i As Integer)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S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intValeur =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Sub New(ByVal i As Integer, ByVal s As String)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S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intValeur =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strValeur = 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Définition des méthode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3200400"/>
            <a:ext cx="83055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2133720"/>
            <a:ext cx="7696440" cy="410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Sub MaMethode(ByVal i As Integ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Function MaFonction(ByVal i As Integer) As Boole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Fun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Function MaFonction(ByVal s As String) As Boole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Fun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Définition des propriété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3200400"/>
            <a:ext cx="83055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2362320"/>
            <a:ext cx="7696080" cy="36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Property Nom() As St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Return sNom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Retourne valeur variable loc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G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Set(ByVal Value As Str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sNom = Value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Affecte valeur à variable loc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Proper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Restriction sur usage des propriété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80880" y="1981080"/>
            <a:ext cx="7696440" cy="4572000"/>
            <a:chOff x="380880" y="1981080"/>
            <a:chExt cx="7696440" cy="4572000"/>
          </a:xfrm>
        </p:grpSpPr>
        <p:sp>
          <p:nvSpPr>
            <p:cNvPr id="225" name=""/>
            <p:cNvSpPr/>
            <p:nvPr/>
          </p:nvSpPr>
          <p:spPr>
            <a:xfrm>
              <a:off x="380880" y="1981080"/>
              <a:ext cx="7696440" cy="457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Public ReadOnly Property Age() As St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G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    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Return iAge.ToSt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End G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End Proper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Public WriteOnly Property Lecture() As St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Set(ByVal Value As String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    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strValeur = Valu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End S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End Proper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2057400" y="2361600"/>
              <a:ext cx="3276720" cy="1295640"/>
            </a:xfrm>
            <a:prstGeom prst="line">
              <a:avLst/>
            </a:prstGeom>
            <a:ln cap="sq"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10080" y="335268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ccff"/>
                  </a:solidFill>
                  <a:latin typeface="Times New Roman"/>
                </a:rPr>
                <a:t>Lecture seul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2361960" y="4647960"/>
              <a:ext cx="2895480" cy="990720"/>
            </a:xfrm>
            <a:prstGeom prst="line">
              <a:avLst/>
            </a:prstGeom>
            <a:ln cap="sq"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410080" y="5333760"/>
              <a:ext cx="236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ccff"/>
                  </a:solidFill>
                  <a:latin typeface="Times New Roman"/>
                </a:rPr>
                <a:t>Ecriture seul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Définition des évènement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3200400"/>
            <a:ext cx="83055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2057400"/>
            <a:ext cx="7848360" cy="318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Event Evenement(ByVal message As Str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Property Nom() As St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Set(ByVal Value As Str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sNom = Value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Affecte valeur à variable loc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RaiseEvent Evenement("Le nom a été renseigné"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Proper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es modificateurs d’accessibilité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2362320"/>
            <a:ext cx="2895480" cy="52056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ff"/>
                </a:solidFill>
                <a:latin typeface="Times New Roman"/>
              </a:rPr>
              <a:t>Mot cl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57600" y="2362320"/>
            <a:ext cx="5105520" cy="52056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ff"/>
                </a:solidFill>
                <a:latin typeface="Times New Roman"/>
              </a:rPr>
              <a:t>Défin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762120" y="2948040"/>
            <a:ext cx="8001000" cy="520560"/>
            <a:chOff x="762120" y="2948040"/>
            <a:chExt cx="8001000" cy="520560"/>
          </a:xfrm>
        </p:grpSpPr>
        <p:sp>
          <p:nvSpPr>
            <p:cNvPr id="237" name=""/>
            <p:cNvSpPr/>
            <p:nvPr/>
          </p:nvSpPr>
          <p:spPr>
            <a:xfrm>
              <a:off x="762120" y="2948040"/>
              <a:ext cx="2895480" cy="520560"/>
            </a:xfrm>
            <a:prstGeom prst="rect">
              <a:avLst/>
            </a:prstGeom>
            <a:solidFill>
              <a:srgbClr val="ffffcc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Publi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657600" y="2948040"/>
              <a:ext cx="5105520" cy="520560"/>
            </a:xfrm>
            <a:prstGeom prst="rect">
              <a:avLst/>
            </a:prstGeom>
            <a:solidFill>
              <a:srgbClr val="ffffcc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Accessible partou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62120" y="3505320"/>
            <a:ext cx="8001000" cy="520560"/>
            <a:chOff x="762120" y="3505320"/>
            <a:chExt cx="8001000" cy="520560"/>
          </a:xfrm>
        </p:grpSpPr>
        <p:sp>
          <p:nvSpPr>
            <p:cNvPr id="240" name=""/>
            <p:cNvSpPr/>
            <p:nvPr/>
          </p:nvSpPr>
          <p:spPr>
            <a:xfrm>
              <a:off x="762120" y="3505320"/>
              <a:ext cx="2895480" cy="520560"/>
            </a:xfrm>
            <a:prstGeom prst="rect">
              <a:avLst/>
            </a:prstGeom>
            <a:solidFill>
              <a:srgbClr val="ffffcc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Private</a:t>
              </a: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57600" y="3505320"/>
              <a:ext cx="5105520" cy="520560"/>
            </a:xfrm>
            <a:prstGeom prst="rect">
              <a:avLst/>
            </a:prstGeom>
            <a:solidFill>
              <a:srgbClr val="ffffcc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Accès dans la classe uniqueme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762120" y="4038480"/>
            <a:ext cx="2895480" cy="1373760"/>
          </a:xfrm>
          <a:prstGeom prst="rect">
            <a:avLst/>
          </a:prstGeom>
          <a:solidFill>
            <a:srgbClr val="ffffcc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Friend</a:t>
            </a: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7600" y="4038480"/>
            <a:ext cx="5105520" cy="1008000"/>
          </a:xfrm>
          <a:prstGeom prst="rect">
            <a:avLst/>
          </a:prstGeom>
          <a:solidFill>
            <a:srgbClr val="ffffcc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Accès Classe - Espace de nom </a:t>
            </a:r>
            <a:br>
              <a:rPr sz="2800"/>
            </a:br>
            <a:r>
              <a:rPr b="0" lang="fr-FR" sz="3200" spc="-1" strike="noStrike">
                <a:solidFill>
                  <a:srgbClr val="0066cc"/>
                </a:solidFill>
                <a:latin typeface="Times New Roman"/>
              </a:rPr>
              <a:t>A</a:t>
            </a: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ssembl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762120" y="5105520"/>
            <a:ext cx="8001000" cy="520560"/>
            <a:chOff x="762120" y="5105520"/>
            <a:chExt cx="8001000" cy="520560"/>
          </a:xfrm>
        </p:grpSpPr>
        <p:sp>
          <p:nvSpPr>
            <p:cNvPr id="245" name=""/>
            <p:cNvSpPr/>
            <p:nvPr/>
          </p:nvSpPr>
          <p:spPr>
            <a:xfrm>
              <a:off x="762120" y="5105520"/>
              <a:ext cx="2895480" cy="520560"/>
            </a:xfrm>
            <a:prstGeom prst="rect">
              <a:avLst/>
            </a:prstGeom>
            <a:solidFill>
              <a:srgbClr val="ffffcc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Protecte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57600" y="5105520"/>
              <a:ext cx="5105520" cy="520560"/>
            </a:xfrm>
            <a:prstGeom prst="rect">
              <a:avLst/>
            </a:prstGeom>
            <a:solidFill>
              <a:srgbClr val="ffffcc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Accès classe et classes dérivé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Utilisation de destructeur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4419720"/>
            <a:ext cx="7848720" cy="132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rotected Overrides Sub finalize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oCon.Close()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ferme la connex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ub finalize utilisée pour nettoyer des ressour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ode exécuté par le garbage colle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destruction peut ne pas être immédi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eut être utilisé pour nettoyer d’autres ressources ouver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Garbage collec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rocessus en tâche de fond qui nettoie les références inutilisé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varObjet = Nothing permet d’indiquer que l’objet peut être supprim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s objets ou autre mémoire qui sont hors d’atteinte (hors de portée) sont nettoy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destruction de l’objet est autorisée mais 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ucune garantie quant au moment où elle aura lie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collecte des objets inaccessibles peut être forcée par le recours directe à la classe système GC : GC.Collect(). Ce processus n’est toutefois pas recommandé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Une classe dérivée hérite d’une classe de b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s propriétés, méthodes, évènements pourront être hérit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ots clés précisant les conditions d’hérit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herits : dans la classe dérivée à partir d’une classe de b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NotInheritable : Impossible d’héri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ustInherit : Impossible de créer des instances de cette clas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Une class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classe est une description abstraite d’un objet. Elle peut être considérée en  quelque sorte comme un moule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3706920" cy="3230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3429000"/>
            <a:ext cx="3505320" cy="5205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Nom de la clas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4267080"/>
            <a:ext cx="3505320" cy="8254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cc"/>
                </a:solidFill>
                <a:latin typeface="Times New Roman"/>
              </a:rPr>
              <a:t>Description des attributs ou données memb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5410080"/>
            <a:ext cx="3505320" cy="8254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cc"/>
                </a:solidFill>
                <a:latin typeface="Times New Roman"/>
              </a:rPr>
              <a:t>Description des méthodes</a:t>
            </a:r>
            <a:br>
              <a:rPr sz="2400"/>
            </a:br>
            <a:r>
              <a:rPr b="0" lang="fr-FR" sz="2400" spc="-1" strike="noStrike">
                <a:solidFill>
                  <a:srgbClr val="0066cc"/>
                </a:solidFill>
                <a:latin typeface="Times New Roman"/>
              </a:rPr>
              <a:t> = code associ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Substitution et surchar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classe dérivée peut remplacer une méthode ou une propriété hérité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verridable : rend la substitution po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ustOverride : substitution obligatoi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verrides : remplacement de méth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NotOverridable : substitution impo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tiliser Overloads pour surcharger une méthode dans une classe héritée avec une signature différen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xemples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1889280"/>
            <a:ext cx="7848720" cy="454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MustInherit Class Classe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rivate sNom As 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Property Nom() As 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Return sNom </a:t>
            </a:r>
            <a:r>
              <a:rPr b="0" lang="fr-FR" sz="1800" spc="-1" strike="noStrike">
                <a:solidFill>
                  <a:srgbClr val="008000"/>
                </a:solidFill>
                <a:latin typeface="Times New Roman"/>
              </a:rPr>
              <a:t>' Retourne valeur variable loc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…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Proper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overridable sub Methode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xemples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2209680"/>
            <a:ext cx="7848720" cy="37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Class ClasseDeriv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Inherits Classe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rivate sPrenom As 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Sub New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Overrides Sub Methode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8000"/>
                </a:solidFill>
                <a:latin typeface="Times New Roman"/>
              </a:rPr>
              <a:t>' Méthode substitué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xemples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3886200"/>
            <a:ext cx="7848360" cy="287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Class ClasseDerivee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Inherits ClasseBase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Sub New(ByVal nom As Strin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MyBase.New(no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…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ot clé MyBase fait référence à la classe de base immédiate dans la hiérarch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Souvent utilisé pour créer une instance de la classe de bas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Permet aussi d’accéder à une méthode de la classe de 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Mise en œuvre du polymorphism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rois approches possibl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liaison tardive. A la compilation, on ne spécifie pas la nature de la classe mais on travaille avec un objet indéterminé. Pose de nombreux souc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substitution de membres d’une classe de base dans une classe dérivé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es interfa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es signatures des méthodes et propriétés sont définies dans l’interf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’implémentation du code se fait dans la classe qui implémente les méth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iaison tardiv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2209680"/>
            <a:ext cx="7848720" cy="37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Dim oMaClasse As Ob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Sub Instancier(ByVal typeObjet As Strin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If typeObjet = "Chat" T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oMaClasse = New ClasseDeriv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oMaClasse = New ClasseDerivee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I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oMaClasse.Mordre() </a:t>
            </a:r>
            <a:r>
              <a:rPr b="0" lang="fr-FR" sz="1800" spc="-1" strike="noStrike">
                <a:solidFill>
                  <a:srgbClr val="008000"/>
                </a:solidFill>
                <a:latin typeface="Times New Roman"/>
              </a:rPr>
              <a:t>' Doit être implémentée dans les 2 clas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Définition d’une interfac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4495680"/>
            <a:ext cx="7848360" cy="203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Interface MonInte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Function TraiterNom(ByVal Nom As String) As 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Sub MethodeX(ByVal I As Integ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Sub MethodeX(ByVal S As Strin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Inte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s interfaces définissent des signatures de méthodes, d’évènements et de propriét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éfinie au sein d’un module avec les mots clés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terface – End Interf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urchage possible des memb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eut hériter d’une autre interface : Inheri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Implémentation d’une interfac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4920" y="2971800"/>
            <a:ext cx="8839080" cy="36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Public Class ClasseImplemen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Implements MonInte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Public Sub MethodeX(ByVal I As Integer) Implements MonInterface.Methode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600" spc="-1" strike="noStrike">
                <a:solidFill>
                  <a:srgbClr val="008000"/>
                </a:solidFill>
                <a:latin typeface="Times New Roman"/>
              </a:rPr>
              <a:t>'... code implémen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Public Sub MethodeX1(ByVal S As String) Implements MonInterface.Methode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Public Function TraiterNom(ByVal Nom As String) As String Implements MonInterface.TraiterN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End Fun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i une classe implémente une interface, elle doit implémenter l’ensemble des membres de l’interf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Données membres partagée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3520" y="3200400"/>
            <a:ext cx="7772400" cy="318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Class CompeEparg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rivate dMontant As Dou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Shared TauxInteret As Dou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Function CalculInterets() As Dou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Return dMontant * TauxInter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Fun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ermettre à plusieurs instances de partager une même variable de clas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a persistance \ La sérialis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Un objet doit vivre au-delà de la portée de l’instance de ce derni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ermettre de stocker nos objets dans une mémoire non volatile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lusieurs mécanismes peuvent être mis en œuv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Recours fréquent à XML aujourd’hu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instanci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haque objet correspond à une instance de la classe à laquelle il fait référen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06560" cy="3230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19720" y="3124080"/>
            <a:ext cx="2438280" cy="11912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Marque = Peugeot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Puissance = 7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maximale = 197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courante = 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4572000"/>
            <a:ext cx="2438640" cy="11912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Marque = Renault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Puissance = 5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maximale = 176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courante = 6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instanci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création d’un objet est constituée de deux phases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Une phase du ressort de la classe : allouer de la mémoire et un contexte d’exécution minimaliste. Méthode de clas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Une phase du ressort de l’objet : initialiser ses attributs d’instance. Méthode d’inst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ans les langages tels que Java, C++, VB ou C#, ces deux phases ne sont pas différenciées.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ppel à une méthode spéciale : le constructeu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instanci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9811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581280" y="4191120"/>
            <a:ext cx="914400" cy="895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371600" y="25146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181480" y="421020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705720" y="421020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895480" y="23623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419720" y="2362320"/>
            <a:ext cx="1143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ff"/>
                </a:solidFill>
                <a:latin typeface="Times New Roman"/>
              </a:rPr>
              <a:t>Clas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5334120"/>
            <a:ext cx="3276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ff"/>
                </a:solidFill>
                <a:latin typeface="Times New Roman"/>
              </a:rPr>
              <a:t>Les objets instanci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05320" y="3581280"/>
            <a:ext cx="380880" cy="53352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3200400"/>
            <a:ext cx="1143000" cy="99072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19720" y="3048120"/>
            <a:ext cx="2438280" cy="114300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24480" y="3124080"/>
            <a:ext cx="2057400" cy="520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3300"/>
                </a:solidFill>
                <a:latin typeface="Times New Roman"/>
              </a:rPr>
              <a:t>Construct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e principe d’encapsul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bstraction de données : </a:t>
            </a:r>
            <a:br>
              <a:rPr sz="24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structure d’un objet n’est pas visible de l’extérieur. 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Seule son interface est accessible par le biais de messages invocables par le client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bstraction procédurale :</a:t>
            </a:r>
            <a:br>
              <a:rPr sz="24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’invocation d’un message est une opération atomique. Aucun élément d’information sur les traitements internes mis en œuvre n’est nécessair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ette notion est déjà mise en œuvre dans l’établissement des routines (fonctions ou procédures) dans les langages classiqu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ncapsul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4419720"/>
            <a:ext cx="762012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térieur de l’objet protég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omplexité dissimul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aintenance simplifié (centralisa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Echanges avec l’externe sont codifi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1752840" cy="1716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334120" y="2743200"/>
            <a:ext cx="175248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3352680"/>
            <a:ext cx="175248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5280" y="2819520"/>
            <a:ext cx="175284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3429000"/>
            <a:ext cx="175284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066680" y="2057400"/>
            <a:ext cx="6782040" cy="1981080"/>
          </a:xfrm>
          <a:prstGeom prst="rect">
            <a:avLst/>
          </a:prstGeom>
          <a:solidFill>
            <a:srgbClr val="ccffff">
              <a:alpha val="50000"/>
            </a:srgbClr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Classification : Hiérarchie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5334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ermet de gérer la complexité en ordonnant les classes au sein d’arborescences de classes d’abstraction croissan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éhiculeTerrest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0552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éhicule Aéri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4572000"/>
            <a:ext cx="13716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oi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4572000"/>
            <a:ext cx="12193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Cam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4572000"/>
            <a:ext cx="13716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Av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4572000"/>
            <a:ext cx="152424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Hélicoptè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33920" y="2133720"/>
            <a:ext cx="175248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éhicu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65760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480024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752480" y="3809880"/>
            <a:ext cx="60984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2590560" y="3809880"/>
            <a:ext cx="60948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3809880"/>
            <a:ext cx="60984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6400440" y="3809880"/>
            <a:ext cx="60948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438280"/>
            <a:ext cx="2438280" cy="459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lasses abstra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06:45:38Z</dcterms:created>
  <dc:creator>A.F.P.A. Pays de Brive</dc:creator>
  <dc:description/>
  <dc:language>en-US</dc:language>
  <cp:lastModifiedBy>A.F.P.A. Pays de Brive</cp:lastModifiedBy>
  <dcterms:modified xsi:type="dcterms:W3CDTF">2006-08-07T08:02:53Z</dcterms:modified>
  <cp:revision>145</cp:revision>
  <dc:subject/>
  <dc:title>Présentation générale  de la Formation RPSI</dc:title>
</cp:coreProperties>
</file>