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307B-9975-4A27-B387-FD3D15A42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65C2-77E7-474C-B8FC-988164D8B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A2D8-36A7-45C6-BF4F-D556963C9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5548-D0C2-4DBC-B2CD-FFE96F96B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A886F-A9A4-4DEE-9334-7E58F229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B1EB4-4313-443F-9B63-9847966D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38CB4-7030-4B0C-AD65-BDD93A1A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31729-B25C-4096-8C27-6CB68B3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B6423-140B-4E0C-9BEC-F7CF3079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726CD-02F3-4F0C-8A92-4D2D0CDD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3EADE-E2EC-4C20-9A10-B9D794A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74F9-D346-4194-85EE-224E7B3AA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91760-99FC-4348-B6DD-DEFFD17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22C19-C34A-41D3-8693-8B08D4B8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9883B-48C5-4953-9183-20FCD792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9F2E9-5406-4BA4-8BCA-EA09B6B7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4B8A8-FD2A-4B3F-8D2D-21233C7F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4D34-FB4D-4C74-B227-46D1BCA15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193E-14D4-4794-8817-5E377E74D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E9AF-FC47-46FB-9C31-85B0E1334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D3DC1-C269-4468-9969-7FCC0E11C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559CD-5220-416F-A090-FC6C9BFBE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F9A8E-77FF-4B04-BCA9-4D0D894CD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66F7-79FA-473F-80AF-1F94A6023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90A-5C29-49D0-BC5B-3F2EDD4B58D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1BDB-396C-4297-8CBF-DEA8F766E22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4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6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39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4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Bost</cp:lastModifiedBy>
  <dcterms:modified xsi:type="dcterms:W3CDTF">2007-02-12T08:45:49Z</dcterms:modified>
  <cp:revision>146</cp:revision>
  <dc:subject/>
  <dc:title>Présentation générale  de la Formation RPSI</dc:title>
</cp:coreProperties>
</file>