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5591-01FC-469E-AA42-6BA1095BC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C75B-BA9E-4214-875D-D41C64016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FE0E-86B4-472A-ADF8-0DD636E9D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9A81-14D2-4EA9-9C90-491185434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98D20-0529-4CC4-8FCA-0F6B4A2B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BEFC8-0F39-4C2F-ABAA-85990FF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257D-14BE-4ED4-B6E2-94F084B2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C167D-E34A-48F8-87E9-5E33ADD5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C72BD-D03D-4412-A78C-53871448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75CE-A779-4F05-A666-5C6CAD6F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23DA1-4E4F-480A-A7F1-40E1F8B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C844-14C2-4A2B-A540-ED3776042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C098E-B867-4CFA-A213-48FEF2E8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5EEE3-94C3-449B-BCAF-C9DBE9B9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47AA-328F-4655-9E37-99AF4ED6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387B4-A422-4392-A714-1B83CAC2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4759E-25AC-49AC-8F50-F2C36513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BA9E-EA8B-40C0-BB82-61DCF97E8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2545-F65D-4915-B296-2D4C1D072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07FB-CEE5-4A69-95DC-2F3FB7F05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5D89-1145-41C8-9E72-68228BF82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86A5-8A1E-4315-8D93-CA8E15BDA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0CB3-9947-4223-A96E-7AC07B6F0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A5A2-BF96-44E1-9C12-EAF3BA0AF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D5A1-4DFE-4AFD-88CD-10F1D30E7E5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B6E-1D20-4A98-A951-DBDE1939D25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4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6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39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4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Bost</cp:lastModifiedBy>
  <dcterms:modified xsi:type="dcterms:W3CDTF">2007-02-12T08:45:49Z</dcterms:modified>
  <cp:revision>146</cp:revision>
  <dc:subject/>
  <dc:title>Présentation générale  de la Formation RPSI</dc:title>
</cp:coreProperties>
</file>