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455-9110-4173-848E-49EDEBB4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754-79DF-4955-AB9A-9A0640BE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92B-5E4D-4D07-9FA4-17F253BD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A8C-D92C-4325-9795-9E81C9BE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8DB1-D5B5-4679-A8E7-9B156ADD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9735-B2B0-41B8-B04C-499761C5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D620-B850-402E-8DB1-5C33564E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4118-4AAF-4900-A93A-48183AB5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970E-5A07-444D-9033-0A1FE7B7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4C1A-EF3C-4B11-8EAA-65C2B101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FCA8-B3DC-48C2-B8CA-3863C741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C61-C3F6-48EE-BFD9-495F4AC6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1B27-949A-46E7-B508-397B20FA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CBBE-5641-41A0-A3DE-774A890D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A29F-524A-4477-9675-C48A7081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515E-E927-49F8-A045-FB6E5B40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0389-5801-4B79-9381-C7421953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82C-21DA-4077-8B1F-239D651D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B14-E52B-4B82-8563-AC3CE5F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D48-1129-447E-8960-B4F7F028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22B-4B90-4D17-B490-128C03D7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AEA-BF5C-4234-836E-15E6BEBF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74B-3864-4C00-9F87-D00457A6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084-A99B-4A6D-BBC6-C04BE77D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7715-9BB9-457C-9131-E0AFE46AA91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A4F9-FD5C-475F-AD0A-83E56486A96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8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jouter une classe au proj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ttribuer un nom à la classe (nom du fichi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le ou les construct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un destructeur si nécess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évèn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réation d’un constructeu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057400"/>
            <a:ext cx="6858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Constructeur 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, ByVal s As String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strValeur =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méthod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133720"/>
            <a:ext cx="769644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MaMethode(ByVal i As Inte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i As Integer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s As String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362320"/>
            <a:ext cx="769608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Restriction sur usage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0880" y="1981080"/>
            <a:ext cx="7696440" cy="4572000"/>
            <a:chOff x="380880" y="1981080"/>
            <a:chExt cx="7696440" cy="4572000"/>
          </a:xfrm>
        </p:grpSpPr>
        <p:sp>
          <p:nvSpPr>
            <p:cNvPr id="225" name=""/>
            <p:cNvSpPr/>
            <p:nvPr/>
          </p:nvSpPr>
          <p:spPr>
            <a:xfrm>
              <a:off x="380880" y="1981080"/>
              <a:ext cx="769644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ReadOnly Property Ag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Return iAge.To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WriteOnly Property Lectur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et(ByVal Value As Str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trValeur = Val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057400" y="2361600"/>
              <a:ext cx="3276720" cy="129564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10080" y="33526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Lec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2361960" y="4647960"/>
              <a:ext cx="2895480" cy="99072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10080" y="53337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Ecri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évènement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2057400"/>
            <a:ext cx="784836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Event Evenement(ByVal messag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aiseEvent Evenement("Le nom a été renseigné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s modificateurs d’accessibilité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362320"/>
            <a:ext cx="289548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Mot c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2362320"/>
            <a:ext cx="510552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2120" y="2948040"/>
            <a:ext cx="8001000" cy="520560"/>
            <a:chOff x="762120" y="2948040"/>
            <a:chExt cx="8001000" cy="520560"/>
          </a:xfrm>
        </p:grpSpPr>
        <p:sp>
          <p:nvSpPr>
            <p:cNvPr id="237" name=""/>
            <p:cNvSpPr/>
            <p:nvPr/>
          </p:nvSpPr>
          <p:spPr>
            <a:xfrm>
              <a:off x="762120" y="294804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ubl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294804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essible parto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62120" y="3505320"/>
            <a:ext cx="8001000" cy="520560"/>
            <a:chOff x="762120" y="3505320"/>
            <a:chExt cx="8001000" cy="520560"/>
          </a:xfrm>
        </p:grpSpPr>
        <p:sp>
          <p:nvSpPr>
            <p:cNvPr id="240" name=""/>
            <p:cNvSpPr/>
            <p:nvPr/>
          </p:nvSpPr>
          <p:spPr>
            <a:xfrm>
              <a:off x="762120" y="35053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ivate</a:t>
              </a: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7600" y="35053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dans la classe uniquem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62120" y="4038480"/>
            <a:ext cx="2895480" cy="137376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Friend</a:t>
            </a: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4038480"/>
            <a:ext cx="5105520" cy="10080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Accès Classe - Espace de nom </a:t>
            </a:r>
            <a:br>
              <a:rPr sz="2800"/>
            </a:br>
            <a:r>
              <a:rPr b="0" lang="fr-FR" sz="3200" spc="-1" strike="noStrike">
                <a:solidFill>
                  <a:srgbClr val="0066cc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ssemb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62120" y="5105520"/>
            <a:ext cx="8001000" cy="520560"/>
            <a:chOff x="762120" y="5105520"/>
            <a:chExt cx="8001000" cy="520560"/>
          </a:xfrm>
        </p:grpSpPr>
        <p:sp>
          <p:nvSpPr>
            <p:cNvPr id="245" name=""/>
            <p:cNvSpPr/>
            <p:nvPr/>
          </p:nvSpPr>
          <p:spPr>
            <a:xfrm>
              <a:off x="762120" y="51055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otect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51055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classe et classes dérivé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tilisation de destructeu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4419720"/>
            <a:ext cx="78487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otected Overrides Sub finaliz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oCon.Close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ferme la connex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b finalize utilisée pour nettoyer des res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de exécuté par le garbage col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peut ne pas être immédi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être utilisé pour nettoyer d’autres ressources ouver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Garbage collec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cessus en tâche de fond qui nettoie les références inutilis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arObjet = Nothing permet d’indiquer que l’objet peut être supprim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objets ou autre mémoire qui sont hors d’atteinte (hors de portée) sont nettoy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de l’objet est autorisée mais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cune garantie quant au moment où elle aura lie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collecte des objets inaccessibles peut être forcée par le recours directe à la classe système GC : GC.Collect(). Ce processus n’est toutefois pas recommandé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s clés précisant les conditions d’héri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herits : dans la classe dérivée à partir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Inheritable : Impossible d’héri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Inherit : Impossible de créer des instances de cette clas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889280"/>
            <a:ext cx="7848720" cy="45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MustInherit Clas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able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Pre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es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Méthode substitu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3886200"/>
            <a:ext cx="7848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ByVal nom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MyBase.New(n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 clé MyBase fait référence à la classe de base immédiate dans la hiérarch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vent utilisé pour créer une instance de la classe de 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rmet aussi d’accéder à une méthode de la classe de 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iaison tardiv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Dim oMaClasse As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Instancier(ByVal typeObjet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f typeObjet = "Chat"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.Mordre()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Doit être implémentée dans les 2 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4495680"/>
            <a:ext cx="78483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terface Mon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Function TraiterNom(ByVal Nom As String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I As Inte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S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interfaces définissent des signatures de méthodes, d’évènements et de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finie au sein d’un module avec les mots clé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 – End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rchage possible des memb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hériter d’une autre interface : Inher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Implémenta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2971800"/>
            <a:ext cx="8839080" cy="36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Class ClasseImple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Implements Mon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(ByVal I As Integer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'... code implé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1(ByVal S As String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Function TraiterNom(ByVal Nom As String) As String Implements MonInterface.TraiterN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i une classe implémente une interface, elle doit implémenter l’ensemble des membres de l’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onnées membres partagé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3200400"/>
            <a:ext cx="777240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Class CompeEparg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ivate dMontan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hared TauxIntere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CalculInterets()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dMontant * TauxInter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tre à plusieurs instances de partager une même variable de 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A.F.P.A. Pays de Brive</cp:lastModifiedBy>
  <dcterms:modified xsi:type="dcterms:W3CDTF">2006-08-07T08:02:53Z</dcterms:modified>
  <cp:revision>145</cp:revision>
  <dc:subject/>
  <dc:title>Présentation générale  de la Formation RPSI</dc:title>
</cp:coreProperties>
</file>