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D8B-A788-4650-8E8F-70293D7D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C83-FC3A-4B6A-A8C4-281FDB4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79BA-8AE3-4B2D-8F59-D941B834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8CB-DA05-4A26-BFAB-9B89E93B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FDAF-0F0B-4A8E-B81D-1359D725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C777-BC23-4C1B-9EF3-6E28B0B6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05DA-D0F1-41AF-A8D1-7A9868F2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3355-A505-4B07-973E-F591E5D8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26C5-B5D1-4C96-B07D-19A409B0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042-DA43-4C7C-9D7B-20CCC44C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3175-36DB-437B-B33C-30A45801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B31-11FF-46B3-A2AC-C96D488D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C75A-AE0D-4523-87BC-80C1845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9B23-7B8D-4F70-BD83-BC545782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6F43-49A8-46FA-A671-C6E6A330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5C17-F90C-4EC5-BAC6-83F50093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4A6A-6473-4520-A872-C3AC7DF5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496-AB61-4F59-878A-9FFE9E1B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A01-70F0-4503-8658-4BE325F7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782-EEE1-403E-A523-9B8251AD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074-6E5A-420D-BF63-BBC37CB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558-8549-435F-A088-E77813FE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85A-937C-45DE-8D43-44FF05B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D19-415E-484C-8C4D-00E827A9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FEFE-D737-483C-B8FD-3EC3A26D921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42DB-E2E1-48E2-AA56-5233EF60990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8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5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7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40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5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6-08-07T08:02:53Z</dcterms:modified>
  <cp:revision>145</cp:revision>
  <dc:subject/>
  <dc:title>Présentation générale  de la Formation RPSI</dc:title>
</cp:coreProperties>
</file>