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791D-2464-41F6-B7FB-245B46B57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27BE-C920-4F89-97B6-A0BF9FEA5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A6F38-BC6B-476D-B760-6342E71AAE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A25E-EBE3-4EDF-8D31-28E598C86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008FF-3212-43D2-81A3-B646F3F7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D7A2-11B3-422C-B1A1-30919866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4D8A5-EB59-43FF-A3A4-28F2B88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78C37-73B8-4356-A303-184A79C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88C64-000D-4767-9C3C-D695D84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A7DA0-BFB5-4FCD-B1BC-8514764C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635C-5AE2-4A9F-9F6E-1A9B5841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EE7E-AA5E-4742-B6DD-35D600612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D2685-2465-41F3-BF16-6139BA4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AD182-34AA-4B3F-B325-DEA87B96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F24B2-40F1-46F7-9E52-C4D4FA79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3B1EE-73A7-4B6D-8C7E-9101620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61E18-2CB5-4BFA-9771-89B26D67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57CC-5267-48FA-9628-01C3C84BA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868E-7C63-49BB-97B4-F948A7D17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5871-2D84-44F8-B9C4-C6645AD00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B66B-41EA-4F25-8F7A-12CD59100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FC8D-AF74-43AC-8E55-25B44FA6D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6A5DF-4FA4-43E5-BDF0-855B49FAA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F71BF-E0B8-4CC5-8478-407205509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B72-5B99-492E-B767-D8D16D71B78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B6B7-67D0-44CE-B5ED-87C1652622B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4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6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39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4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Bost</cp:lastModifiedBy>
  <dcterms:modified xsi:type="dcterms:W3CDTF">2007-02-12T08:45:49Z</dcterms:modified>
  <cp:revision>146</cp:revision>
  <dc:subject/>
  <dc:title>Présentation générale  de la Formation RPSI</dc:title>
</cp:coreProperties>
</file>