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B456-CCAB-48CE-83E7-64CCCF202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3331F-9B5B-4BE3-8734-C185C7970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DA75-B136-4F7F-8CC4-C0298E926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CB78A-2A9C-4690-9216-DB74DFFD2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8C9CB-4C97-4141-A97E-3F5FF269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ADDBC-64CD-4A36-8CD4-8DD74B36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443AF-742C-4ADC-8FC3-266BFD7E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B92F3-63B3-436B-BCE8-8C025DF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36BDF-7CA4-480F-80AD-B2A331E2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319ED-D5FF-4687-B1FB-43D0EFC7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83BCA-50BD-4B4B-8DE7-C24F4D2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A6B81-E2BE-447E-9D37-F7F3C23B5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CEE1AD-7391-49DE-85A5-9A3598E7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4F524-5048-4955-BFD5-6D0F10E4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14991-60F8-478E-928A-BFFE4057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1547B-05BD-438B-A610-1E14FBEF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0AF52-ACA9-438A-B277-C3F89B497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7082-1535-4CDB-9CCF-0B264B9B1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2148-DD30-4BAF-9F4D-AB2397D69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9FD2F-6D9E-4A85-8BB3-4C5AE410B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5DC5E-D036-41DB-B9CD-5047C810F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88B82-EAF5-4B6E-AE09-7C9C2E635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4E05-D126-4051-8336-B546C6613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E922-5C5F-437D-9803-0868B1884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BF80-A5A6-443B-A9F5-6A831AD2B01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E565-CC5C-40A8-996C-703CB466012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8-11-29T14:33:28Z</dcterms:modified>
  <cp:revision>147</cp:revision>
  <dc:subject/>
  <dc:title>Présentation générale  de la Formation RPSI</dc:title>
</cp:coreProperties>
</file>