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1CACC-14E5-4F37-9833-5B21EC559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B45E7-C784-4D4E-8277-D6FB0F324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BE6F6-482B-4BE6-BD12-B8B32B281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4DCFA-DC07-4E38-8146-A2A53DB2B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17AD6-3803-40D3-998F-6BA6E2E8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59239-2832-422C-A3DA-83AB6164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E21E1-AB83-43F0-A2C8-53A1DD0B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10ABB-12B4-4BE1-BAF8-3114C4D0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9525F-20E1-4E5E-9E87-1E6D63D5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0C286-2FC4-410C-97FC-5565BBD1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70264-E600-4C13-83F7-B179B960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5F940-29ED-4A22-B2B6-A5F005C05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EDE65-3DBE-474A-A624-1F35F973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6E897-A418-4189-B8A7-6EE84805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5871B-7DC7-4C2F-A507-3F3FE5BD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DAC86-D6CA-4551-9F06-4A4662A0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9F84F-66E2-4F7A-B03E-51CFDB91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696C-BF4C-47D2-BDDD-5A7494712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3E034-AEA4-4E89-A207-763AB89A5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96C14-1C01-4F63-91C0-BACCF640C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602C7-D534-49CD-A92F-00C0E4E6B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FC6FD-F964-48EF-8511-0BE7CE3FC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C2D82-0C1A-4C73-96B1-EC7E50296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A6660-2ECA-4F42-ACB2-A5AE87626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09300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822F-AE6E-438F-B3F0-46B95B859EFD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2095-1A31-4B63-8533-1BCECD2E222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rogrammation Orientée Obj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2057400"/>
            <a:ext cx="6782040" cy="99072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 de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76964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lasse image ne peut être instanciée 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MustInherit Public Clas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stanciation d’une image bitmap ou meta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Public Class Bitmap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Inherit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Bitm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Meta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génér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siste à factoriser les éléments communs d’un ensemble de classe dans une classe plus généra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On parle alors de super-classe ou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34340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propriété He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artiennent à la classe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spéc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met de définir les particularités d’un ensemble d’objets non prises en compte par les classes déjà identifiée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3962520"/>
            <a:ext cx="7315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etPixel est une méthode spécifique de la classe BitMa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PlayRecord est une méthode  spécifique de la classe Meta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’où la nécessité d’avoir des sous-classes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spécialis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57150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termination des sur-classes et sous-clas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66680" y="2514600"/>
            <a:ext cx="7086600" cy="2913480"/>
            <a:chOff x="1066680" y="2514600"/>
            <a:chExt cx="7086600" cy="2913480"/>
          </a:xfrm>
        </p:grpSpPr>
        <p:sp>
          <p:nvSpPr>
            <p:cNvPr id="167" name=""/>
            <p:cNvSpPr/>
            <p:nvPr/>
          </p:nvSpPr>
          <p:spPr>
            <a:xfrm>
              <a:off x="1371240" y="2514600"/>
              <a:ext cx="6782040" cy="19810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7616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Terrest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 Aéri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oi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9160" y="5029200"/>
              <a:ext cx="121932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Cam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656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Av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29040" y="5029200"/>
              <a:ext cx="152424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Hélicoptè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38480" y="2590920"/>
              <a:ext cx="175248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96216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510480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0570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89512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7146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670500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7560" y="2895480"/>
              <a:ext cx="2438280" cy="4597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Classes abstrai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62120" y="2438280"/>
            <a:ext cx="0" cy="3810240"/>
          </a:xfrm>
          <a:prstGeom prst="line">
            <a:avLst/>
          </a:prstGeom>
          <a:ln cap="sq"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686800" y="2514600"/>
            <a:ext cx="0" cy="38098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Génér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1919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péci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de plus bas niveau (terminales) sont des classes concrè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non terminales sont souvent abstrai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viter une trop grande profondeur de décompo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décomposition doit être s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Héritage : Exprime une relation ES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5486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sous classe hérite des propriétés et méthodes de la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671920" cy="2971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048120" cy="2433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124080" y="2819520"/>
            <a:ext cx="1752840" cy="114300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4419720"/>
            <a:ext cx="1981080" cy="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ssociation : Exprime une dépendan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pend d’une autre classe pour accomplir une fonction spécif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multiplicité détermine le nombre d’objets pouvant participer à un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010640" cy="153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H="1" flipV="1">
            <a:off x="4952520" y="3200040"/>
            <a:ext cx="1752840" cy="6094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3657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ultiplic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43200" y="2819160"/>
            <a:ext cx="990720" cy="99036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ssoci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grégation : Une relation Tout-Parti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lasse complexe comprenant d’autres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ligne commande est une partie de la comman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480" y="2743200"/>
            <a:ext cx="2286000" cy="99072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grég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391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olymorphisme via héritage d’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562720" y="220968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ême opération se comporte différemment quand elle s’applique à des objets basés sur des classes différe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45720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utres formes de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substitution de méthodes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dans la classe dérivée se substitue à celle définie dans la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liaison tardive Late Binding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n’indique pas au compilateur la classe spécifique utilisée. On déclare un objet génér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utilise lors de l’instanciation une classe spécif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 éviter pour des problèmes de performances et une mise en oeuvre délicat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Notion d’obje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 objet est une entité cohérente rassemblant des données et du code travaillant sur ces donné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4533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rivée hérite d’une classe de b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propriétés, méthodes, évènements pourront être héri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Substitution et surchar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rivée peut remplacer une méthode ou une propriété hérit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able : rend la substitution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stOverride : substitution obligato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es : remplacement de méth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tOverridable : substitution im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tiliser Overloads pour surcharger une méthode dans une classe héritée avec une signature différen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Mise en œuvre du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ois approches possib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liaison tardive. A la compilation, on ne spécifie pas la nature de la classe mais on travaille avec un objet indéterminé. Pose de nombreux souc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ubstitution de membres d’une classe de base dans une classe dérivé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interfa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signatures des méthodes et propriétés sont définies dans l’inte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mplémentation du code se fait dans la classe qui implémente les méth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persistance \ La sér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Un objet doit vivre au-delà de la portée de l’instance de ce derni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ermettre de stocker nos objets dans une mémoire non volatile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lusieurs mécanismes peuvent être mis en œuv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ecours fréquent à XML aujourd’hu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Une class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est une description abstraite d’un objet. Elle peut être considérée en  quelque sorte comme un moule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3706920" cy="3230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3429000"/>
            <a:ext cx="3505320" cy="520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Nom de la 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267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attributs ou données memb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5410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méthodes</a:t>
            </a:r>
            <a:br>
              <a:rPr sz="2400"/>
            </a:b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 = code associ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aque objet correspond à une instance de la classe à laquelle il fait référen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06560" cy="3230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124080"/>
            <a:ext cx="243828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Peugeo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9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572000"/>
            <a:ext cx="243864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Renaul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5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76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réation d’un objet est constituée de deux phases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a classe : allouer de la mémoire et un contexte d’exécution minimaliste. Méthode de clas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’objet : initialiser ses attributs d’instance. Méthode d’inst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ans les langages tels que Java, C++, VB ou C#, ces deux phases ne sont pas différenciées.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el à une méthode spéciale : le constructeu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981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914400" cy="895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71600" y="25146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8148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895480" y="23623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19720" y="2362320"/>
            <a:ext cx="1143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5334120"/>
            <a:ext cx="327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Les objets instanci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3581280"/>
            <a:ext cx="380880" cy="5335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00400"/>
            <a:ext cx="1143000" cy="9907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048120"/>
            <a:ext cx="2438280" cy="114300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124080"/>
            <a:ext cx="2057400" cy="520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Construct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e principe d’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de données : 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tructure d’un objet n’est pas visible de l’extérieur.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eule son interface est accessible par le biais de messages invocables par le cli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procédurale :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nvocation d’un message est une opération atomique. Aucun élément d’information sur les traitements internes mis en œuvre n’est nécessai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ette notion est déjà mise en œuvre dans l’établissement des routines (fonctions ou procédures) dans les langages classiqu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44197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érieur de l’objet protég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mplexité dissimul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intenance simplifié (centralis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changes avec l’externe sont codifi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1752840" cy="1716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4120" y="274320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35268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281952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342900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2057400"/>
            <a:ext cx="6782040" cy="198108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 :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rmet de gérer la complexité en ordonnant les classes au sein d’arborescences de classes d’abstraction croissan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Terrest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 Aér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oi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4572000"/>
            <a:ext cx="12193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Cam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Av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4572000"/>
            <a:ext cx="152424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Hélicoptè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7524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59056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100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640044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6:45:38Z</dcterms:created>
  <dc:creator>A.F.P.A. Pays de Brive</dc:creator>
  <dc:description/>
  <dc:language>en-US</dc:language>
  <cp:lastModifiedBy>A.F.P.A. Pays de Brive</cp:lastModifiedBy>
  <dcterms:modified xsi:type="dcterms:W3CDTF">2008-11-29T14:33:28Z</dcterms:modified>
  <cp:revision>147</cp:revision>
  <dc:subject/>
  <dc:title>Présentation générale  de la Formation RPSI</dc:title>
</cp:coreProperties>
</file>