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F2C62-C8D8-4E42-BF21-BB412A135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72F28-1A15-4112-873C-074BFA750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49A1C-D165-42D2-BD00-79132D234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6DA12-365E-4F58-A4AE-8D384235C1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B68BC-C642-4705-9568-B194D2B3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BE6C8-732C-463C-BBC5-B2E25A86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D8C19-2B2D-40CC-826E-D61C9B8F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514F6-6F03-4F5B-913E-4F39E681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044E9-2EB7-41CE-99EB-96D29A23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AA580-1B49-41FB-A123-93E59508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C594E-1482-49D6-BC49-BD0718A1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E6F54-6F35-4CB6-9A24-7E3EC7832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AAE99-0B7D-41C1-91F6-258C6AB6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ED049-C319-4491-ADE0-CCB9B092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55188-A323-45DE-8400-67312A2D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7AAED-2C90-419D-9FE1-92EA853C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08F57-45E2-404E-9E40-E47D6DE2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D43B1-1A60-4D8B-8682-68136946C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B9F7D-E255-4A26-9B07-A576B952D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D11F2-8074-403A-8C42-18B317383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F1ED0-5D9D-478D-A0D0-D8FC493CD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6FDF5-A322-4F9C-9468-AE0768ABD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F1695-E495-4B81-B9C4-5B8191FB6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491FA-4B62-4BA2-9C36-537EE11901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09300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604D-811B-4922-A29B-AC06E507CC3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911E-1689-43D7-A807-F5381FF7C64F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rogrammation Orientée Obj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2057400"/>
            <a:ext cx="6782040" cy="99072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 de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76964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lasse image ne peut être instanciée 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MustInherit Public Clas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stanciation d’une image bitmap ou meta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Public Class Bitmap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Inherit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Bitm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Meta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génér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siste à factoriser les éléments communs d’un ensemble de classe dans une classe plus généra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On parle alors de super-classe ou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34340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propriété He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artiennent à la classe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spéc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met de définir les particularités d’un ensemble d’objets non prises en compte par les classes déjà identifiée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3962520"/>
            <a:ext cx="7315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etPixel est une méthode spécifique de la classe BitMa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PlayRecord est une méthode  spécifique de la classe Meta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’où la nécessité d’avoir des sous-classes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spécialis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57150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termination des sur-classes et sous-clas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66680" y="2514600"/>
            <a:ext cx="7086600" cy="2913480"/>
            <a:chOff x="1066680" y="2514600"/>
            <a:chExt cx="7086600" cy="2913480"/>
          </a:xfrm>
        </p:grpSpPr>
        <p:sp>
          <p:nvSpPr>
            <p:cNvPr id="167" name=""/>
            <p:cNvSpPr/>
            <p:nvPr/>
          </p:nvSpPr>
          <p:spPr>
            <a:xfrm>
              <a:off x="1371240" y="2514600"/>
              <a:ext cx="6782040" cy="19810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7616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Terrest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 Aéri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oi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9160" y="5029200"/>
              <a:ext cx="121932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Cam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656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Av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29040" y="5029200"/>
              <a:ext cx="152424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Hélicoptè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38480" y="2590920"/>
              <a:ext cx="175248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96216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510480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0570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89512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7146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670500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7560" y="2895480"/>
              <a:ext cx="2438280" cy="4597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Classes abstrai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62120" y="2438280"/>
            <a:ext cx="0" cy="3810240"/>
          </a:xfrm>
          <a:prstGeom prst="line">
            <a:avLst/>
          </a:prstGeom>
          <a:ln cap="sq"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686800" y="2514600"/>
            <a:ext cx="0" cy="38098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Génér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1919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péci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de plus bas niveau (terminales) sont des classes concrè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non terminales sont souvent abstrai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viter une trop grande profondeur de décompo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décomposition doit être s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Héritage : Exprime une relation ES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5486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sous classe hérite des propriétés et méthodes de la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671920" cy="2971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048120" cy="2433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124080" y="2819520"/>
            <a:ext cx="1752840" cy="114300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4419720"/>
            <a:ext cx="1981080" cy="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ssociation : Exprime une dépendan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pend d’une autre classe pour accomplir une fonction spécif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multiplicité détermine le nombre d’objets pouvant participer à un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010640" cy="153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H="1" flipV="1">
            <a:off x="4952520" y="3200040"/>
            <a:ext cx="1752840" cy="6094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3657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ultiplic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43200" y="2819160"/>
            <a:ext cx="990720" cy="99036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ssoci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grégation : Une relation Tout-Parti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lasse complexe comprenant d’autres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ligne commande est une partie de la comman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480" y="2743200"/>
            <a:ext cx="2286000" cy="99072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grég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391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olymorphisme via héritage d’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562720" y="220968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ême opération se comporte différemment quand elle s’applique à des objets basés sur des classes différe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45720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utres formes de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substitution de méthodes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dans la classe dérivée se substitue à celle définie dans la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liaison tardive Late Binding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n’indique pas au compilateur la classe spécifique utilisée. On déclare un objet génér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utilise lors de l’instanciation une classe spécif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 éviter pour des problèmes de performances et une mise en oeuvre délicat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Notion d’obje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 objet est une entité cohérente rassemblant des données et du code travaillant sur ces donné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4533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rivée hérite d’une classe de b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propriétés, méthodes, évènements pourront être héri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Substitution et surchar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rivée peut remplacer une méthode ou une propriété hérit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able : rend la substitution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stOverride : substitution obligato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es : remplacement de méth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tOverridable : substitution im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tiliser Overloads pour surcharger une méthode dans une classe héritée avec une signature différen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Mise en œuvre du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ois approches possib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liaison tardive. A la compilation, on ne spécifie pas la nature de la classe mais on travaille avec un objet indéterminé. Pose de nombreux souc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ubstitution de membres d’une classe de base dans une classe dérivé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interfa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signatures des méthodes et propriétés sont définies dans l’inte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mplémentation du code se fait dans la classe qui implémente les méth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persistance \ La sér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Un objet doit vivre au-delà de la portée de l’instance de ce derni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ermettre de stocker nos objets dans une mémoire non volatile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lusieurs mécanismes peuvent être mis en œuv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ecours fréquent à XML aujourd’hu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Une class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est une description abstraite d’un objet. Elle peut être considérée en  quelque sorte comme un moule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3706920" cy="3230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3429000"/>
            <a:ext cx="3505320" cy="520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Nom de la 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267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attributs ou données memb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5410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méthodes</a:t>
            </a:r>
            <a:br>
              <a:rPr sz="2400"/>
            </a:b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 = code associ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aque objet correspond à une instance de la classe à laquelle il fait référen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06560" cy="3230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124080"/>
            <a:ext cx="243828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Peugeo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9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572000"/>
            <a:ext cx="243864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Renaul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5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76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réation d’un objet est constituée de deux phases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a classe : allouer de la mémoire et un contexte d’exécution minimaliste. Méthode de clas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’objet : initialiser ses attributs d’instance. Méthode d’inst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ans les langages tels que Java, C++, VB ou C#, ces deux phases ne sont pas différenciées.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el à une méthode spéciale : le constructeu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981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914400" cy="895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71600" y="25146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8148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895480" y="23623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19720" y="2362320"/>
            <a:ext cx="1143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5334120"/>
            <a:ext cx="327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Les objets instanci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3581280"/>
            <a:ext cx="380880" cy="5335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00400"/>
            <a:ext cx="1143000" cy="9907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048120"/>
            <a:ext cx="2438280" cy="114300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124080"/>
            <a:ext cx="2057400" cy="520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Construct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e principe d’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de données : 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tructure d’un objet n’est pas visible de l’extérieur.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eule son interface est accessible par le biais de messages invocables par le cli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procédurale :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nvocation d’un message est une opération atomique. Aucun élément d’information sur les traitements internes mis en œuvre n’est nécessai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ette notion est déjà mise en œuvre dans l’établissement des routines (fonctions ou procédures) dans les langages classiqu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44197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érieur de l’objet protég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mplexité dissimul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intenance simplifié (centralis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changes avec l’externe sont codifi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1752840" cy="1716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4120" y="274320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35268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281952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342900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2057400"/>
            <a:ext cx="6782040" cy="198108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 :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rmet de gérer la complexité en ordonnant les classes au sein d’arborescences de classes d’abstraction croissan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Terrest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 Aér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oi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4572000"/>
            <a:ext cx="12193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Cam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Av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4572000"/>
            <a:ext cx="152424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Hélicoptè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7524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59056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100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640044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6:45:38Z</dcterms:created>
  <dc:creator>A.F.P.A. Pays de Brive</dc:creator>
  <dc:description/>
  <dc:language>en-US</dc:language>
  <cp:lastModifiedBy>A.F.P.A. Pays de Brive</cp:lastModifiedBy>
  <dcterms:modified xsi:type="dcterms:W3CDTF">2008-11-29T14:33:28Z</dcterms:modified>
  <cp:revision>147</cp:revision>
  <dc:subject/>
  <dc:title>Présentation générale  de la Formation RPSI</dc:title>
</cp:coreProperties>
</file>