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3A63D-0F41-4649-9F7C-7C23FE46D7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1759E-0B08-4733-91FF-A01A24BD18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4F8F8-B891-444C-B796-16AEA5A687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6486D-42F0-48DE-AC9D-9C3A126745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C27389-29AA-4938-B618-78789676A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530B68-D94C-422E-A51C-F400CEDDD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5C1634-50BC-4C5D-AE76-5419F5A94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8AA86D-A74E-41DA-AF8D-040CD954E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42DE86-B4A0-4EA7-BACD-59125F20C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F8F44D-AEDD-4E6B-A530-EFA8EE6FE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C95428-4493-4398-9C87-A1B68374B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53000-1862-41E3-B41F-8FF862DCFA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1491C7-D55E-4480-B8C3-88391E995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4523A6-11F7-4C6B-AE62-94EC55A90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4C502C-66A5-41A9-A59E-485010D52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5AC667-2562-4E21-BC47-ED55B5F56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C1974E-356F-4A6E-AD3D-64DCAB875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BA230-F5BB-4A9C-AC6A-C7A8FA38E8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6D71D-BD91-4ADD-B4F7-168265553C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59F63-4CA7-4B28-B680-D7FA42B640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C306C-267B-4D84-8809-C66894F9F5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14ACC-B7ED-42DE-B457-86C4E84C70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91FA0-5ABF-4B3C-988F-F7AF0DC03E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BBC2F-91EB-4F3F-B778-71B1057A83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09300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FD5F0-36AF-448F-A8A8-5979130D3914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9EF9E-2DA6-43B1-8C6C-E962EA7A49BD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Programmation Orientée Obje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066680" y="2057400"/>
            <a:ext cx="6782040" cy="990720"/>
          </a:xfrm>
          <a:prstGeom prst="rect">
            <a:avLst/>
          </a:prstGeom>
          <a:solidFill>
            <a:srgbClr val="ccffff">
              <a:alpha val="50000"/>
            </a:srgbClr>
          </a:solidFill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Exemple de hiérarchie d’héritag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520" y="4038120"/>
            <a:ext cx="769644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classe image ne peut être instanciée </a:t>
            </a:r>
            <a:r>
              <a:rPr b="1" lang="fr-FR" sz="2400" spc="-1" strike="noStrike">
                <a:solidFill>
                  <a:srgbClr val="ffffff"/>
                </a:solidFill>
                <a:latin typeface="Arial Unicode MS"/>
              </a:rPr>
              <a:t>MustInherit Public Class Image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Instanciation d’une image bitmap ou metafi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Arial Unicode MS"/>
              </a:rPr>
              <a:t>Public Class Bitmap 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 Unicode MS"/>
              </a:rPr>
              <a:t>Inherits Image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371600" y="3276720"/>
            <a:ext cx="228600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Bitma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105520" y="3276720"/>
            <a:ext cx="228600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MetaF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33920" y="2133720"/>
            <a:ext cx="175248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Im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3657600" y="2590560"/>
            <a:ext cx="609480" cy="60948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4800240" y="2590560"/>
            <a:ext cx="609480" cy="60948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43000" y="2438280"/>
            <a:ext cx="2438280" cy="4597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lasses abstrai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Principe de généralis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22856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Consiste à factoriser les éléments communs d’un ensemble de classe dans une classe plus générale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On parle alors de super-classe ou sur-clas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4343400"/>
            <a:ext cx="7315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propriété Heigh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méthode Sa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ppartiennent à la classe 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Principe de spécialis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22856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Permet de définir les particularités d’un ensemble d’objets non prises en compte par les classes déjà identifiées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3962520"/>
            <a:ext cx="73152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méthode SetPixel est une méthode spécifique de la classe BitMap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méthode PlayRecord est une méthode  spécifique de la classe Meta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d’où la nécessité d’avoir des sous-classes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spécialisé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La classific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571500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Détermination des sur-classes et sous-class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066680" y="2514600"/>
            <a:ext cx="7086600" cy="2913480"/>
            <a:chOff x="1066680" y="2514600"/>
            <a:chExt cx="7086600" cy="2913480"/>
          </a:xfrm>
        </p:grpSpPr>
        <p:sp>
          <p:nvSpPr>
            <p:cNvPr id="167" name=""/>
            <p:cNvSpPr/>
            <p:nvPr/>
          </p:nvSpPr>
          <p:spPr>
            <a:xfrm>
              <a:off x="1371240" y="2514600"/>
              <a:ext cx="6782040" cy="1981080"/>
            </a:xfrm>
            <a:prstGeom prst="rect">
              <a:avLst/>
            </a:prstGeom>
            <a:solidFill>
              <a:srgbClr val="ccffff">
                <a:alpha val="50000"/>
              </a:srgbClr>
            </a:solidFill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676160" y="3733920"/>
              <a:ext cx="2286000" cy="3988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3300"/>
                  </a:solidFill>
                  <a:latin typeface="Times New Roman"/>
                </a:rPr>
                <a:t>VéhiculeTerrest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410080" y="3733920"/>
              <a:ext cx="2286000" cy="3988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3300"/>
                  </a:solidFill>
                  <a:latin typeface="Times New Roman"/>
                </a:rPr>
                <a:t>Véhicule Aérie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066680" y="5029200"/>
              <a:ext cx="1371600" cy="3988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3300"/>
                  </a:solidFill>
                  <a:latin typeface="Times New Roman"/>
                </a:rPr>
                <a:t>Voi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819160" y="5029200"/>
              <a:ext cx="1219320" cy="3988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3300"/>
                  </a:solidFill>
                  <a:latin typeface="Times New Roman"/>
                </a:rPr>
                <a:t>Cam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876560" y="5029200"/>
              <a:ext cx="1371600" cy="3988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3300"/>
                  </a:solidFill>
                  <a:latin typeface="Times New Roman"/>
                </a:rPr>
                <a:t>Av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629040" y="5029200"/>
              <a:ext cx="1524240" cy="3988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3300"/>
                  </a:solidFill>
                  <a:latin typeface="Times New Roman"/>
                </a:rPr>
                <a:t>Hélicoptè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038480" y="2590920"/>
              <a:ext cx="1752480" cy="3988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3300"/>
                  </a:solidFill>
                  <a:latin typeface="Times New Roman"/>
                </a:rPr>
                <a:t>Véhicul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3962160" y="3047760"/>
              <a:ext cx="609480" cy="609480"/>
            </a:xfrm>
            <a:prstGeom prst="line">
              <a:avLst/>
            </a:prstGeom>
            <a:ln cap="sq" w="5076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 flipV="1">
              <a:off x="5104800" y="3047760"/>
              <a:ext cx="609480" cy="609480"/>
            </a:xfrm>
            <a:prstGeom prst="line">
              <a:avLst/>
            </a:prstGeom>
            <a:ln cap="sq" w="5076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2057040" y="4267080"/>
              <a:ext cx="609840" cy="609840"/>
            </a:xfrm>
            <a:prstGeom prst="line">
              <a:avLst/>
            </a:prstGeom>
            <a:ln cap="sq" w="5076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flipV="1">
              <a:off x="2895120" y="4267080"/>
              <a:ext cx="609480" cy="609840"/>
            </a:xfrm>
            <a:prstGeom prst="line">
              <a:avLst/>
            </a:prstGeom>
            <a:ln cap="sq" w="5076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5714640" y="4267080"/>
              <a:ext cx="609840" cy="609840"/>
            </a:xfrm>
            <a:prstGeom prst="line">
              <a:avLst/>
            </a:prstGeom>
            <a:ln cap="sq" w="5076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 flipV="1">
              <a:off x="6705000" y="4267080"/>
              <a:ext cx="609480" cy="609840"/>
            </a:xfrm>
            <a:prstGeom prst="line">
              <a:avLst/>
            </a:prstGeom>
            <a:ln cap="sq" w="5076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47560" y="2895480"/>
              <a:ext cx="2438280" cy="45972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Times New Roman"/>
                </a:rPr>
                <a:t>Classes abstrait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762120" y="2438280"/>
            <a:ext cx="0" cy="3810240"/>
          </a:xfrm>
          <a:prstGeom prst="line">
            <a:avLst/>
          </a:prstGeom>
          <a:ln cap="sq" w="7632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686800" y="2514600"/>
            <a:ext cx="0" cy="3809880"/>
          </a:xfrm>
          <a:prstGeom prst="line">
            <a:avLst/>
          </a:prstGeom>
          <a:ln cap="sq"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19051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Généralis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010280" y="191916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Spécialis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Classific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es classes de plus bas niveau (terminales) sont des classes concrèt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es classes non terminales sont souvent abstrait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Eviter une trop grande profondeur de décomposi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a décomposition doit être stab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Héritage : Exprime une relation EST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2120" y="5486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Une sous classe hérite des propriétés et méthodes de la sur-clas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838080" y="2209680"/>
            <a:ext cx="2671920" cy="29718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5257800" y="2666880"/>
            <a:ext cx="3048120" cy="24336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124080" y="2819520"/>
            <a:ext cx="1752840" cy="1143000"/>
          </a:xfrm>
          <a:prstGeom prst="line">
            <a:avLst/>
          </a:prstGeom>
          <a:ln cap="sq"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48120" y="4419720"/>
            <a:ext cx="1981080" cy="0"/>
          </a:xfrm>
          <a:prstGeom prst="line">
            <a:avLst/>
          </a:prstGeom>
          <a:ln cap="sq"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Association : Exprime une dépendanc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45716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Une classe dépend d’une autre classe pour accomplir une fonction spécifiqu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a multiplicité détermine le nombre d’objets pouvant participer à une rel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7010640" cy="1531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 flipH="1" flipV="1">
            <a:off x="4952520" y="3200040"/>
            <a:ext cx="1752840" cy="609480"/>
          </a:xfrm>
          <a:prstGeom prst="line">
            <a:avLst/>
          </a:prstGeom>
          <a:ln cap="sq"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81680" y="36576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Multiplicit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743200" y="2819160"/>
            <a:ext cx="990720" cy="990360"/>
          </a:xfrm>
          <a:prstGeom prst="line">
            <a:avLst/>
          </a:prstGeom>
          <a:ln cap="sq"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62120" y="37339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Association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Agrégation : Une relation Tout-Parti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45716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Classe complexe comprenant d’autres class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a ligne commande est une partie de la comman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895480" y="2743200"/>
            <a:ext cx="2286000" cy="990720"/>
          </a:xfrm>
          <a:prstGeom prst="line">
            <a:avLst/>
          </a:prstGeom>
          <a:ln cap="sq"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257800" y="35053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Agrégation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295280" y="2057400"/>
            <a:ext cx="73915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Polymorphisme via héritage d’interfac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562720" y="2209680"/>
            <a:ext cx="32004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même opération se comporte différemment quand elle s’applique à des objets basés sur des classes différent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609480" y="2133720"/>
            <a:ext cx="45720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Autres formes de polymorphism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30592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Par substitution de méthodes :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méthode dans la classe dérivée se substitue à celle définie dans la classe de ba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Par liaison tardive Late Binding :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On n’indique pas au compilateur la classe spécifique utilisée. On déclare un objet générique.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On utilise lors de l’instanciation une classe spécifique.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 éviter pour des problèmes de performances et une mise en oeuvre délicat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Notion d’objet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Un objet est une entité cohérente rassemblant des données et du code travaillant sur ces donnée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514600" y="3352680"/>
            <a:ext cx="453384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L’héritag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Une classe dérivée hérite d’une classe de ba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es propriétés, méthodes, évènements pourront être hérité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Substitution et surcharg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Une classe dérivée peut remplacer une méthode ou une propriété hérité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Overridable : rend la substitution possib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MustOverride : substitution obligatoi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Overrides : remplacement de méth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NotOverridable : substitution impossib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Utiliser Overloads pour surcharger une méthode dans une classe héritée avec une signature différen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Mise en œuvre du polymorphism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Trois approches possibl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a liaison tardive. A la compilation, on ne spécifie pas la nature de la classe mais on travaille avec un objet indéterminé. Pose de nombreux souc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a substitution de membres d’une classe de base dans une classe dérivé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es interfac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Interfa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es signatures des méthodes et propriétés sont définies dans l’interfa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’implémentation du code se fait dans la classe qui implémente les méth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La persistance \ La sérialis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Un objet doit vivre au-delà de la portée de l’instance de ce derni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Permettre de stocker nos objets dans une mémoire non volatile…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Plusieurs mécanismes peuvent être mis en œuv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Recours fréquent à XML aujourd’hu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Une class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Une classe est une description abstraite d’un objet. Elle peut être considérée en  quelque sorte comme un moule…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981080" y="3200400"/>
            <a:ext cx="3706920" cy="32306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943600" y="3429000"/>
            <a:ext cx="2209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86400" y="3429000"/>
            <a:ext cx="3505320" cy="5205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66cc"/>
                </a:solidFill>
                <a:latin typeface="Times New Roman"/>
              </a:rPr>
              <a:t>Nom de la clas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86400" y="4267080"/>
            <a:ext cx="3505320" cy="8254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66cc"/>
                </a:solidFill>
                <a:latin typeface="Times New Roman"/>
              </a:rPr>
              <a:t>Description des attributs ou données memb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86400" y="5410080"/>
            <a:ext cx="3505320" cy="8254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66cc"/>
                </a:solidFill>
                <a:latin typeface="Times New Roman"/>
              </a:rPr>
              <a:t>Description des méthodes</a:t>
            </a:r>
            <a:br>
              <a:rPr sz="2400"/>
            </a:br>
            <a:r>
              <a:rPr b="0" lang="fr-FR" sz="2400" spc="-1" strike="noStrike">
                <a:solidFill>
                  <a:srgbClr val="0066cc"/>
                </a:solidFill>
                <a:latin typeface="Times New Roman"/>
              </a:rPr>
              <a:t> = code associ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L’instanci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Chaque objet correspond à une instance de la classe à laquelle il fait référenc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62120" y="2971800"/>
            <a:ext cx="3706560" cy="3230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943600" y="3429000"/>
            <a:ext cx="2209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19720" y="3124080"/>
            <a:ext cx="2438280" cy="119124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66cc"/>
                </a:solidFill>
                <a:latin typeface="Times New Roman"/>
              </a:rPr>
              <a:t>Marque = Peugeot</a:t>
            </a:r>
            <a:br>
              <a:rPr sz="1800"/>
            </a:br>
            <a:r>
              <a:rPr b="0" lang="fr-FR" sz="1800" spc="-1" strike="noStrike">
                <a:solidFill>
                  <a:srgbClr val="0066cc"/>
                </a:solidFill>
                <a:latin typeface="Times New Roman"/>
              </a:rPr>
              <a:t>Puissance = 7</a:t>
            </a:r>
            <a:br>
              <a:rPr sz="1800"/>
            </a:br>
            <a:r>
              <a:rPr b="0" lang="fr-FR" sz="1800" spc="-1" strike="noStrike">
                <a:solidFill>
                  <a:srgbClr val="0066cc"/>
                </a:solidFill>
                <a:latin typeface="Times New Roman"/>
              </a:rPr>
              <a:t>Vitesse maximale = 197</a:t>
            </a:r>
            <a:br>
              <a:rPr sz="1800"/>
            </a:br>
            <a:r>
              <a:rPr b="0" lang="fr-FR" sz="1800" spc="-1" strike="noStrike">
                <a:solidFill>
                  <a:srgbClr val="0066cc"/>
                </a:solidFill>
                <a:latin typeface="Times New Roman"/>
              </a:rPr>
              <a:t>Vitesse courante = 9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572000"/>
            <a:ext cx="2438640" cy="119124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66cc"/>
                </a:solidFill>
                <a:latin typeface="Times New Roman"/>
              </a:rPr>
              <a:t>Marque = Renault</a:t>
            </a:r>
            <a:br>
              <a:rPr sz="1800"/>
            </a:br>
            <a:r>
              <a:rPr b="0" lang="fr-FR" sz="1800" spc="-1" strike="noStrike">
                <a:solidFill>
                  <a:srgbClr val="0066cc"/>
                </a:solidFill>
                <a:latin typeface="Times New Roman"/>
              </a:rPr>
              <a:t>Puissance = 5</a:t>
            </a:r>
            <a:br>
              <a:rPr sz="1800"/>
            </a:br>
            <a:r>
              <a:rPr b="0" lang="fr-FR" sz="1800" spc="-1" strike="noStrike">
                <a:solidFill>
                  <a:srgbClr val="0066cc"/>
                </a:solidFill>
                <a:latin typeface="Times New Roman"/>
              </a:rPr>
              <a:t>Vitesse maximale = 176</a:t>
            </a:r>
            <a:br>
              <a:rPr sz="1800"/>
            </a:br>
            <a:r>
              <a:rPr b="0" lang="fr-FR" sz="1800" spc="-1" strike="noStrike">
                <a:solidFill>
                  <a:srgbClr val="0066cc"/>
                </a:solidFill>
                <a:latin typeface="Times New Roman"/>
              </a:rPr>
              <a:t>Vitesse courante = 6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L’instanci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792468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création d’un objet est constituée de deux phases 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Une phase du ressort de la classe : allouer de la mémoire et un contexte d’exécution minimaliste. Méthode de clas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Une phase du ressort de l’objet : initialiser ses attributs d’instance. Méthode d’inst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Dans les langages tels que Java, C++, VB ou C#, ces deux phases ne sont pas différenciées. 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ppel à une méthode spéciale : le constructeu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43600" y="3429000"/>
            <a:ext cx="2209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L’instanci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43600" y="3429000"/>
            <a:ext cx="2209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298116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581280" y="4191120"/>
            <a:ext cx="914400" cy="8953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371600" y="25146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181480" y="4210200"/>
            <a:ext cx="914400" cy="8953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6705720" y="4210200"/>
            <a:ext cx="914400" cy="8953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2895480" y="23623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419720" y="2362320"/>
            <a:ext cx="1143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ccff"/>
                </a:solidFill>
                <a:latin typeface="Times New Roman"/>
              </a:rPr>
              <a:t>Clas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343400" y="5334120"/>
            <a:ext cx="3276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ccff"/>
                </a:solidFill>
                <a:latin typeface="Times New Roman"/>
              </a:rPr>
              <a:t>Les objets instancié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05320" y="3581280"/>
            <a:ext cx="380880" cy="53352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91120" y="3200400"/>
            <a:ext cx="1143000" cy="99072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19720" y="3048120"/>
            <a:ext cx="2438280" cy="114300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124080"/>
            <a:ext cx="2057400" cy="520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3300"/>
                </a:solidFill>
                <a:latin typeface="Times New Roman"/>
              </a:rPr>
              <a:t>Constructe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Le principe d’encapsul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bstraction de données : </a:t>
            </a:r>
            <a:br>
              <a:rPr sz="2400"/>
            </a:b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a structure d’un objet n’est pas visible de l’extérieur. 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Seule son interface est accessible par le biais de messages invocables par le client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bstraction procédurale :</a:t>
            </a:r>
            <a:br>
              <a:rPr sz="2400"/>
            </a:b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’invocation d’un message est une opération atomique. Aucun élément d’information sur les traitements internes mis en œuvre n’est nécessair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Cette notion est déjà mise en œuvre dans l’établissement des routines (fonctions ou procédures) dans les langages classique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943600" y="3429000"/>
            <a:ext cx="2209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Encapsul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4419720"/>
            <a:ext cx="762012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Intérieur de l’objet protégé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Complexité dissimulé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Maintenance simplifié (centralisatio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Echanges avec l’externe sont codifié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352680" y="2209680"/>
            <a:ext cx="1752840" cy="17161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334120" y="2743200"/>
            <a:ext cx="1752480" cy="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05520" y="3352680"/>
            <a:ext cx="1752480" cy="0"/>
          </a:xfrm>
          <a:prstGeom prst="line">
            <a:avLst/>
          </a:prstGeom>
          <a:ln cap="sq" w="50760">
            <a:solidFill>
              <a:srgbClr val="ff33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95280" y="2819520"/>
            <a:ext cx="1752840" cy="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23880" y="3429000"/>
            <a:ext cx="1752840" cy="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066680" y="2057400"/>
            <a:ext cx="6782040" cy="1981080"/>
          </a:xfrm>
          <a:prstGeom prst="rect">
            <a:avLst/>
          </a:prstGeom>
          <a:solidFill>
            <a:srgbClr val="ccffff">
              <a:alpha val="50000"/>
            </a:srgbClr>
          </a:solidFill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Classification : Hiérarchie d’héritag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53341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Permet de gérer la complexité en ordonnant les classes au sein d’arborescences de classes d’abstraction croissan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71600" y="3276720"/>
            <a:ext cx="228600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VéhiculeTerrest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105520" y="3276720"/>
            <a:ext cx="228600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Véhicule Aéri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120" y="4572000"/>
            <a:ext cx="137160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Voi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14600" y="4572000"/>
            <a:ext cx="121932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Cam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4572000"/>
            <a:ext cx="137160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Av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324480" y="4572000"/>
            <a:ext cx="152424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Hélicoptè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733920" y="2133720"/>
            <a:ext cx="175248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Véhicu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3657600" y="2590560"/>
            <a:ext cx="609480" cy="60948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4800240" y="2590560"/>
            <a:ext cx="609480" cy="60948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752480" y="3809880"/>
            <a:ext cx="609840" cy="60984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2590560" y="3809880"/>
            <a:ext cx="609480" cy="60984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5410080" y="3809880"/>
            <a:ext cx="609840" cy="60984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6400440" y="3809880"/>
            <a:ext cx="609480" cy="60984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2438280"/>
            <a:ext cx="2438280" cy="4597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lasses abstrai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3T06:45:38Z</dcterms:created>
  <dc:creator>A.F.P.A. Pays de Brive</dc:creator>
  <dc:description/>
  <dc:language>en-US</dc:language>
  <cp:lastModifiedBy>A.F.P.A. Pays de Brive</cp:lastModifiedBy>
  <dcterms:modified xsi:type="dcterms:W3CDTF">2008-11-29T14:33:28Z</dcterms:modified>
  <cp:revision>147</cp:revision>
  <dc:subject/>
  <dc:title>Présentation générale  de la Formation RPSI</dc:title>
</cp:coreProperties>
</file>